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043920" cy="26352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8628120" y="6539040"/>
            <a:ext cx="46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E647-6A5D-4E62-AA6C-AC2BD6D2F26B}" type="slidenum"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77760" y="-41400"/>
            <a:ext cx="31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컴퓨터활용능력</a:t>
            </a:r>
            <a:r>
              <a:rPr b="1" lang="en-US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1</a:t>
            </a:r>
            <a:r>
              <a:rPr b="1" lang="zh-CN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급 필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893080" y="0"/>
            <a:ext cx="250920" cy="260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5838840" y="-41400"/>
            <a:ext cx="31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기사퍼스트</a:t>
            </a:r>
            <a:r>
              <a:rPr b="1" lang="ko-KR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(www.gisafirst.com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57840" y="4076640"/>
            <a:ext cx="2270160" cy="247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0920" y="404640"/>
            <a:ext cx="1512720" cy="7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43640" y="404640"/>
            <a:ext cx="24494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나눔고딕"/>
                <a:ea typeface="나눔고딕"/>
              </a:rPr>
              <a:t>기사퍼스트</a:t>
            </a:r>
            <a:br>
              <a:rPr sz="2800"/>
            </a:br>
            <a:r>
              <a:rPr b="1" lang="ko-KR" sz="1600" spc="-1" strike="noStrike">
                <a:solidFill>
                  <a:srgbClr val="000000"/>
                </a:solidFill>
                <a:latin typeface="나눔고딕"/>
                <a:ea typeface="나눔고딕"/>
              </a:rPr>
              <a:t>www.gisafirs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4282920" y="5877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나눔손글씨 붓"/>
                <a:ea typeface="나눔손글씨 붓"/>
              </a:rPr>
              <a:t>강사 </a:t>
            </a:r>
            <a:r>
              <a:rPr b="1" lang="en-US" sz="4000" spc="-1" strike="noStrike">
                <a:solidFill>
                  <a:srgbClr val="000000"/>
                </a:solidFill>
                <a:latin typeface="나눔손글씨 붓"/>
                <a:ea typeface="나눔손글씨 붓"/>
              </a:rPr>
              <a:t>: </a:t>
            </a:r>
            <a:r>
              <a:rPr b="1" lang="zh-CN" sz="4000" spc="-1" strike="noStrike">
                <a:solidFill>
                  <a:srgbClr val="000000"/>
                </a:solidFill>
                <a:latin typeface="나눔손글씨 붓"/>
                <a:ea typeface="나눔손글씨 붓"/>
              </a:rPr>
              <a:t>권우석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4240" y="1268280"/>
            <a:ext cx="889308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나눔고딕"/>
                <a:ea typeface="나눔고딕"/>
              </a:rPr>
              <a:t>컴퓨터활용능력</a:t>
            </a:r>
            <a:r>
              <a:rPr b="1" lang="en-US" sz="5400" spc="-1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나눔고딕"/>
                <a:ea typeface="나눔고딕"/>
              </a:rPr>
              <a:t>급 필기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[2012</a:t>
            </a:r>
            <a:r>
              <a:rPr b="1" lang="zh-CN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년 </a:t>
            </a:r>
            <a:r>
              <a:rPr b="1" lang="en-US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회</a:t>
            </a:r>
            <a:r>
              <a:rPr b="1" lang="en-US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핵심 기출문제 풀이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나눔고딕"/>
                <a:ea typeface="나눔고딕"/>
              </a:rPr>
              <a:t>- </a:t>
            </a:r>
            <a:r>
              <a:rPr b="1" lang="zh-CN" sz="4000" spc="-1" strike="noStrike">
                <a:solidFill>
                  <a:srgbClr val="ff0000"/>
                </a:solidFill>
                <a:latin typeface="나눔고딕"/>
                <a:ea typeface="나눔고딕"/>
              </a:rPr>
              <a:t>데이터베이스 일반 </a:t>
            </a:r>
            <a:r>
              <a:rPr b="1" lang="en-US" sz="4000" spc="-1" strike="noStrike">
                <a:solidFill>
                  <a:srgbClr val="ff0000"/>
                </a:solidFill>
                <a:latin typeface="나눔고딕"/>
                <a:ea typeface="나눔고딕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000" y="620640"/>
            <a:ext cx="89503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학생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테이블을 이용하여 월별로 생일인 학생수를 표시하는 폼을 만들기 위한 레코드 원본으로 옳은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elect month(*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sum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일자수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from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학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group by month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select month(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생년월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) as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월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, count(*) as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생일자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from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학생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group by month(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생년월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elect month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count(*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일자수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from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학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group by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elect month(*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count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일자수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from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학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group by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3597840"/>
            <a:ext cx="8713800" cy="27838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Select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month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count(*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일자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From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학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굴림"/>
              </a:rPr>
              <a:t>Group by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 month(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생년월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문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필드 이름이나 테이블 이름에 별명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Alias)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을 지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Group by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절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특정 필드를 기준으로 그룹화하여 검색할 때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484280"/>
          <a:ext cx="4249800" cy="334800"/>
        </p:xfrm>
        <a:graphic>
          <a:graphicData uri="http://schemas.openxmlformats.org/drawingml/2006/table">
            <a:tbl>
              <a:tblPr/>
              <a:tblGrid>
                <a:gridCol w="42498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생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년월일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락처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804000" y="3645000"/>
          <a:ext cx="2089080" cy="669960"/>
        </p:xfrm>
        <a:graphic>
          <a:graphicData uri="http://schemas.openxmlformats.org/drawingml/2006/table">
            <a:tbl>
              <a:tblPr/>
              <a:tblGrid>
                <a:gridCol w="1044720"/>
                <a:gridCol w="104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일자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5016600" y="4462560"/>
            <a:ext cx="3889440" cy="12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집계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그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함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COUNT(*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레코드의 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건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Null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포함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COUNT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필드명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)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레코드의 건수 </a:t>
            </a:r>
            <a:r>
              <a:rPr b="1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Null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제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SUM(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필드명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합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411920" y="4919760"/>
            <a:ext cx="424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월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8000" y="620640"/>
            <a:ext cx="895032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음 그림과 같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필드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컨트롤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된 문자를 포함하는 레코드만을 표시하도록 하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프로시저의 코드로 옳은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365720"/>
            <a:ext cx="8713800" cy="23094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건을 그대로 입력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된 문자를 포함하는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like *txt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조회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*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필드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문자형이므로 조건도 문자형으로 변경하기 위해 작은 따옴표로 묶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like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‘*txt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조회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*’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자열 큰 따옴표 묶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like ‘*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”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</a:t>
            </a:r>
            <a:r>
              <a:rPr b="1" lang="ko-KR" sz="3200" spc="-1" strike="noStrike">
                <a:solidFill>
                  <a:srgbClr val="ff0000"/>
                </a:solidFill>
                <a:latin typeface="굴림"/>
              </a:rPr>
              <a:t>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’</a:t>
            </a:r>
            <a:r>
              <a:rPr b="1" lang="ko-KR" sz="3200" spc="-1" strike="noStrike">
                <a:solidFill>
                  <a:srgbClr val="ff0000"/>
                </a:solidFill>
                <a:latin typeface="굴림"/>
              </a:rPr>
              <a:t>”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자열과 컨트롤명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amp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로 연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“학과명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like ‘*” 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&amp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 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&amp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“*’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_x81438208" descr=""/>
          <p:cNvPicPr/>
          <p:nvPr/>
        </p:nvPicPr>
        <p:blipFill>
          <a:blip r:embed="rId1"/>
          <a:stretch/>
        </p:blipFill>
        <p:spPr>
          <a:xfrm>
            <a:off x="5435640" y="44280"/>
            <a:ext cx="3633840" cy="3816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1840" y="1704960"/>
            <a:ext cx="423108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Filter=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='*"&amp; 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amp; "*'"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FilterOn=Tru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Filter=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='*"&amp; 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amp; "*'"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FilterOn=Fal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③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Me.Filter="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학과명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like '*"&amp; txt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조회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&amp; "*'"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Me.FilterOn=Tru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Filter=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like '*"&amp; 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amp; "*'"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FilterOn=Fal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620640"/>
            <a:ext cx="89503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1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회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 – 13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강에서 설명한 기출문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폼의 작성 과정에 대한 다음 설명 중 바르지 못한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cmb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’ 명령 단추를 클릭하면 이름 필드의 값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’ 컨트롤에 입력된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문자열이 일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하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레코드를 표시하도록 하기 위해 다음과 같이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벤트 프로시저를 작성하였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94360" y="1379520"/>
          <a:ext cx="3960720" cy="106848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ivate Sub cmb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회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_Click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.Filter = "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름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'"&amp; txt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회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amp; "'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.FilterOn = 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d Su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149400" y="2852640"/>
            <a:ext cx="8893080" cy="3494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Filter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= 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='"&amp; 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amp; "'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FilterOn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= Tru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Me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현재 개체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문제에서는 폼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F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ilter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레코드를 추출하는 조건을 설정하는 속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FilterOn : Filter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속성을 적용할지를 설정하는 속성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True : Filter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속성 적용됨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Fasle : Filter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속성이 해제되어 전체 레코드 표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</a:rPr>
              <a:t>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=</a:t>
            </a:r>
            <a:r>
              <a:rPr b="1" lang="ko-KR" sz="2800" spc="-1" strike="noStrike">
                <a:solidFill>
                  <a:srgbClr val="ff0000"/>
                </a:solidFill>
                <a:latin typeface="굴림"/>
              </a:rPr>
              <a:t>'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</a:rPr>
              <a:t>" </a:t>
            </a:r>
            <a:r>
              <a:rPr b="1" lang="ko-KR" sz="2800" spc="-1" strike="noStrike">
                <a:solidFill>
                  <a:srgbClr val="ff0000"/>
                </a:solidFill>
                <a:latin typeface="굴림"/>
              </a:rPr>
              <a:t>&amp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 </a:t>
            </a:r>
            <a:r>
              <a:rPr b="1" lang="ko-KR" sz="2800" spc="-1" strike="noStrike">
                <a:solidFill>
                  <a:srgbClr val="ff0000"/>
                </a:solidFill>
                <a:latin typeface="굴림"/>
              </a:rPr>
              <a:t>&amp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9900"/>
                </a:solidFill>
                <a:latin typeface="굴림"/>
              </a:rPr>
              <a:t>"</a:t>
            </a:r>
            <a:r>
              <a:rPr b="1" lang="ko-KR" sz="2800" spc="-1" strike="noStrike">
                <a:solidFill>
                  <a:srgbClr val="ff0000"/>
                </a:solidFill>
                <a:latin typeface="굴림"/>
              </a:rPr>
              <a:t>'</a:t>
            </a:r>
            <a:r>
              <a:rPr b="1" lang="ko-KR" sz="2800" spc="-1" strike="noStrike">
                <a:solidFill>
                  <a:srgbClr val="009900"/>
                </a:solidFill>
                <a:latin typeface="굴림"/>
              </a:rPr>
              <a:t>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9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강에서 설명한 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필드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름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문자형이므로 조건도 문자형으로 변경하기 위해 작은따옴표로 묶기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‘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’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자열 큰 따옴표 묶기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“</a:t>
            </a:r>
            <a:r>
              <a:rPr b="1" lang="ko-KR" sz="3200" spc="-1" strike="noStrike" u="sng">
                <a:solidFill>
                  <a:srgbClr val="0000ff"/>
                </a:solidFill>
                <a:uFillTx/>
                <a:latin typeface="굴림"/>
              </a:rPr>
              <a:t>이름 </a:t>
            </a:r>
            <a:r>
              <a:rPr b="1" lang="ko-KR" sz="3200" spc="-1" strike="noStrike" u="sng">
                <a:solidFill>
                  <a:srgbClr val="0000ff"/>
                </a:solidFill>
                <a:uFillTx/>
                <a:latin typeface="굴림"/>
              </a:rPr>
              <a:t>=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”     “</a:t>
            </a:r>
            <a:r>
              <a:rPr b="1" lang="ko-KR" sz="3200" spc="-1" strike="noStrike" u="sng">
                <a:solidFill>
                  <a:srgbClr val="0000ff"/>
                </a:solidFill>
                <a:uFillTx/>
                <a:latin typeface="굴림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”)       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자열과 컨트롤명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amp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로 연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435640" y="3429000"/>
          <a:ext cx="3467160" cy="90972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권우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김영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대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5364000" y="2924280"/>
            <a:ext cx="352908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034680" y="2959200"/>
            <a:ext cx="695880" cy="3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xt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7277760" y="2959200"/>
            <a:ext cx="816120" cy="370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cmb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96360" y="2276640"/>
            <a:ext cx="0" cy="720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270080"/>
          <a:ext cx="7128000" cy="2279520"/>
        </p:xfrm>
        <a:graphic>
          <a:graphicData uri="http://schemas.openxmlformats.org/drawingml/2006/table">
            <a:tbl>
              <a:tblPr/>
              <a:tblGrid>
                <a:gridCol w="4564080"/>
                <a:gridCol w="25639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d0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d0c9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문자열 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일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류코드에 </a:t>
                      </a: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B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를 포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ike *B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번호에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A</a:t>
                      </a: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가 포함된 것을 </a:t>
                      </a:r>
                      <a:r>
                        <a:rPr b="1" lang="zh-CN" sz="2400" spc="-1" strike="noStrike" u="sng">
                          <a:solidFill>
                            <a:srgbClr val="0000ff"/>
                          </a:solidFill>
                          <a:uFillTx/>
                          <a:latin typeface="굴림"/>
                        </a:rPr>
                        <a:t>제외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t like *A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객 </a:t>
                      </a: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성이 박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면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ike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박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537120" y="765000"/>
            <a:ext cx="9334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수식 조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8000" y="620640"/>
            <a:ext cx="89503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음 중 보고서의 작성에 대한 설명으로 옳지 않은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고서의 레코드 원본으로 외부 엑셀 파일에 대한 연결 테이블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Linked Table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을 사용할 수 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고서의 레코드 원본으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QL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을 지정하면 그 쿼리 결과를 이용하여 보고서를 만들 수 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고서의 레코드 원본으로 저장해 놓은 쿼리를 사용하는 경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쿼리가 바뀌면 변경된 쿼리를 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용하여 보고서가 작성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④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보고서의 레코드 원본으로 테이블을 사용할 수 있으며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,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이 경우에 보고서에서 수정된 내용은 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이블에 반영된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2997360"/>
            <a:ext cx="8713800" cy="37663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레코드 원본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테이블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쿼리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SQL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을 원본으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고서를 작성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연결 테이블 이용 가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연결 테이블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연결된 프로그램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액세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양쪽에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데이터를 입력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편집할 수 있도록 하는 작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실행 방법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외부 데이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져오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에서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연결된 테이블의 데이터를 변경하면 원본 데이터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자동으로 변경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고서는 출력용 개체이므로 폼처럼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수정된 내용이 테이블에 반영되지 않는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폼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테이블이나 쿼리를 원본으로 하여 정보를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입력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,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검색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,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수정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,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삭제 등의 작업을 편리하게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수행할 수 있도록 하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자와 데이터베이스간의 대화형 처리를가능하게 해주는 개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고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데이터를 사용자가 원하는 형태로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출력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해 주는 역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486400" y="3119400"/>
            <a:ext cx="3354480" cy="221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620640"/>
            <a:ext cx="89503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음 중 입력 마스크에 대한 설명으로 옳지 않은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 마스크는 필드에 입력할 수 있는 데이터를 제한하는 것으로 세미콜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;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으로 구분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구역으로 구분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 마스크의 첫 번째 구역은 사용자 정의 기호를 사용하여 입력 마스크를 지정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③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서식 문자 저장 여부를 지정하는 입력 마스크의 두번째 구역이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'0'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이면 서식문자를 제외한 입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값만 저장한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 마스크의 세 번째 구역은 데이터가 입력되어야 하는 자리에 표시될 문자를 지정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149400" y="2997360"/>
            <a:ext cx="8893080" cy="3570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입력 마스크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데이터 입력 시 데이터를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신속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하고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정확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하게 입력할 수 있도록 하는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입력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) 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 마스크 마법사’ 이용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ex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민등록번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4043520"/>
            <a:ext cx="5010120" cy="24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2000" y="3716280"/>
            <a:ext cx="170640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5517720" y="4689360"/>
            <a:ext cx="3834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360120" y="5734080"/>
            <a:ext cx="192564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숫자만 입력하면 자동으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주민등록번호 형식으로 입력됨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49400" y="765000"/>
            <a:ext cx="8893080" cy="5784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자 지정 형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세미콜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;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으로 구분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 구역으로 구분된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ex)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000000\-0000000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;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0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;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첫 번째 구역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사용자 정의 기호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를 사용하여 입력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마스크를 지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두 번째 구역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데이터를 입력할 때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하이픈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같은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서식 문자를 테이블에 저장할지 여부 지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0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저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1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또는 공백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값만 저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세 번째 구역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데이터를 입력할때 입력되어야 하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자리에 표시되는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문자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입력마스크 기호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본 문자는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_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언더바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자 지정 형식을 모를 경우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입력 마스크 마법사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용하면 쉽게 입력 가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24360" y="898560"/>
            <a:ext cx="3200400" cy="1666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3752640" cy="242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1628640"/>
            <a:ext cx="3620880" cy="5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1628640"/>
            <a:ext cx="236520" cy="5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1628640"/>
            <a:ext cx="236520" cy="5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012000" y="5105520"/>
            <a:ext cx="2238120" cy="1419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67960" y="907920"/>
            <a:ext cx="3650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4863240" y="2637000"/>
            <a:ext cx="3650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5655600" y="5084640"/>
            <a:ext cx="3650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1:11:33Z</dcterms:created>
  <dc:creator>User</dc:creator>
  <dc:description/>
  <dc:language>en-US</dc:language>
  <cp:lastModifiedBy>MYHOME</cp:lastModifiedBy>
  <dcterms:modified xsi:type="dcterms:W3CDTF">2012-10-27T04:50:21Z</dcterms:modified>
  <cp:revision>312</cp:revision>
  <dc:subject/>
  <dc:title>슬라이드 1</dc:title>
</cp:coreProperties>
</file>