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DDA0-F73E-4C94-A554-5D3969B7E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450E-5270-4FC1-B5F0-2411E030B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A22D-236C-42EA-8297-A4D348E72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9701-1D9C-40C0-8C13-B49C62689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A7A-FA26-4FD3-9163-41D536427E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F58-02A4-4205-9035-8F581422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B42D-147F-4102-B246-27DBF1CF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47C-54F7-47D1-ACFE-2A3F5A70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14A-D276-4B18-90F1-D5ABD192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4E7-270E-451E-8872-712E767C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07D-C369-4352-91FC-EFD99F73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D9F2-8744-4F26-8694-2D4F639A3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2D3-0FE2-446A-B187-DACD8FC9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BA2C-253C-43F5-86D3-711A0D20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C2A-464C-432E-B1F9-20DBC5DB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CFC-2A00-4563-9D8D-704C5A8C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20D-EACE-4C95-A8F1-81F4D3CBA0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3F54-2E98-4C92-A682-AE9F8B926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34DC-D294-48BF-A99A-219459196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5397-8F14-4D02-8A39-FD6A47C7B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7617-D5F7-44A8-85EF-B8F32064F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E6FC-AE3B-4CA3-B226-799087128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BCAE-52B0-4200-BD7D-4ACB64CEC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A086-ABFD-43D4-BC38-FC0C8E518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6FAE-3FE7-43E5-BB8B-F5C741DD1B40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958320" y="1143000"/>
            <a:ext cx="485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4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업무 상황에 맞는 메모 방법을 찾아라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상사를 대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상사가 되었을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비즈니스 문서를 작성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스케줄이 변경되었을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업무를 끝낼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733320" y="6546960"/>
            <a:ext cx="5572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상사와의 관계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비즈니스 문서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스케줄 변경을 위한 메모의 방법을 적용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업무를 끝낼 때의 메모 방법을 이해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65920" y="3686040"/>
            <a:ext cx="290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굴림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업무 상황에 맞는 메모 방법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 찾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433600" y="4370400"/>
            <a:ext cx="2209680" cy="25588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633840" y="2152800"/>
            <a:ext cx="2209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상사로서 부하 직원을 대할 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부하 직원의 행동 유형이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성격 등 기본 사항을 파악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부하 직원에게 명령할 때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때때로 구체적으로 지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한꺼번에 대여섯 가지의 명령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내려 메모할 수 밖에 없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환경을 만든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433600" y="4888080"/>
            <a:ext cx="22096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편지나 비즈니스 문서를 작성할 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무슨 내용을 어떤 식으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전달하고 싶은지 항목별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에게 반드시 전해야 할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항을 빠짐없이 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 쓴 후에는 소리내어 읽어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훌륭한 문장을 만들려고 너무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애쓸 필요는 없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1200240" y="2305080"/>
            <a:ext cx="21333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상사를 대할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시한 내용을 그대로 받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적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을 진행하면서 의문 사항이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이디어도 함께 적어나간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말이 자주 바뀌는 상사를 대할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때는 상사가 지시하면 바로 그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앞에서 받아 적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643200" y="1781280"/>
            <a:ext cx="235296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710160" y="2238480"/>
            <a:ext cx="23619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업무를 끝낼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A4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용지에 하루 동안 한 일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항목별로 적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완전히 끝난 일은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인펜으로 지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매일 메모지에 이런 방식으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를 하고 내일의 할 일을 적어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곳에 붙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이렇게 모아둔 메모지들은 업무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흐름을 알 수 있게 해준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071720" y="178596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1071720" y="2243160"/>
            <a:ext cx="236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스케줄이 변경되었을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변경 전 메모를 깨끗하게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워버리지 않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나중에 다시 보았을 때 변경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유를 알 수 있도록 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9" name="Picture 53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351160"/>
            <a:ext cx="4496040" cy="4221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55"/>
          <p:cNvSpPr/>
          <p:nvPr/>
        </p:nvSpPr>
        <p:spPr>
          <a:xfrm>
            <a:off x="1600200" y="147960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스케줄이 변경되었을 때 메모의 예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1" name="AutoShape 63"/>
          <p:cNvSpPr/>
          <p:nvPr/>
        </p:nvSpPr>
        <p:spPr>
          <a:xfrm>
            <a:off x="1600200" y="2579760"/>
            <a:ext cx="3657600" cy="380880"/>
          </a:xfrm>
          <a:prstGeom prst="roundRect">
            <a:avLst>
              <a:gd name="adj" fmla="val 16667"/>
            </a:avLst>
          </a:prstGeom>
          <a:solidFill>
            <a:srgbClr val="ffe1e1"/>
          </a:solidFill>
          <a:ln w="0">
            <a:noFill/>
          </a:ln>
          <a:effectLst>
            <a:outerShdw dist="17819" dir="2700000" blurRad="0" rotWithShape="0">
              <a:srgbClr val="fefa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오후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시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P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와의 미팅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2" name="Line 64"/>
          <p:cNvSpPr/>
          <p:nvPr/>
        </p:nvSpPr>
        <p:spPr>
          <a:xfrm>
            <a:off x="329580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3" name="Rectangle 67"/>
          <p:cNvSpPr/>
          <p:nvPr/>
        </p:nvSpPr>
        <p:spPr>
          <a:xfrm>
            <a:off x="1714680" y="311292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씨의 자료 준비 미비로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시로 변경되었을 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4" name="AutoShape 68"/>
          <p:cNvSpPr/>
          <p:nvPr/>
        </p:nvSpPr>
        <p:spPr>
          <a:xfrm>
            <a:off x="1600200" y="4648320"/>
            <a:ext cx="3657600" cy="380880"/>
          </a:xfrm>
          <a:prstGeom prst="roundRect">
            <a:avLst>
              <a:gd name="adj" fmla="val 16667"/>
            </a:avLst>
          </a:prstGeom>
          <a:solidFill>
            <a:srgbClr val="ffe1e1"/>
          </a:solidFill>
          <a:ln w="0">
            <a:noFill/>
          </a:ln>
          <a:effectLst>
            <a:outerShdw dist="17819" dir="2700000" blurRad="0" rotWithShape="0">
              <a:srgbClr val="fefa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오전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시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K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기획안 메일 보내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5" name="Line 69"/>
          <p:cNvSpPr/>
          <p:nvPr/>
        </p:nvSpPr>
        <p:spPr>
          <a:xfrm>
            <a:off x="3400560" y="55720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6" name="Rectangle 71"/>
          <p:cNvSpPr/>
          <p:nvPr/>
        </p:nvSpPr>
        <p:spPr>
          <a:xfrm>
            <a:off x="1500120" y="5224320"/>
            <a:ext cx="39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K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씨의 부재로 팩스로 보내고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씨에게 전달을 부탁함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1600200" y="3857760"/>
            <a:ext cx="3657600" cy="609480"/>
          </a:xfrm>
          <a:prstGeom prst="roundRect">
            <a:avLst>
              <a:gd name="adj" fmla="val 16667"/>
            </a:avLst>
          </a:prstGeom>
          <a:solidFill>
            <a:srgbClr val="ffe8d1"/>
          </a:solidFill>
          <a:ln w="0">
            <a:noFill/>
          </a:ln>
          <a:effectLst>
            <a:outerShdw dist="17819" dir="2700000" blurRad="0" rotWithShape="0">
              <a:srgbClr val="fefa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오후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시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P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와의 미팅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P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의 자료 준비 미비로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5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시로 변경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1600200" y="6033960"/>
            <a:ext cx="3657600" cy="609840"/>
          </a:xfrm>
          <a:prstGeom prst="roundRect">
            <a:avLst>
              <a:gd name="adj" fmla="val 16667"/>
            </a:avLst>
          </a:prstGeom>
          <a:solidFill>
            <a:srgbClr val="ffe8d1"/>
          </a:solidFill>
          <a:ln w="0">
            <a:noFill/>
          </a:ln>
          <a:effectLst>
            <a:outerShdw dist="17819" dir="2700000" blurRad="0" rotWithShape="0">
              <a:srgbClr val="fefa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오전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시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K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기획안 메일 보내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K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의 부재로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A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전달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1:25:51Z</dcterms:modified>
  <cp:revision>9</cp:revision>
  <dc:subject/>
  <dc:title>슬라이드 1</dc:title>
</cp:coreProperties>
</file>