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7861-E1CD-4806-8685-13D848C12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3281-805C-46E3-B1E4-BD841DD7A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4508-F4ED-4AE2-B50E-C4A81B6F0F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E61F-1FF6-44DF-831F-E42BD3412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B4D-45A9-420F-A91C-1BE47F393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AE6-3BA3-4B0E-98EA-43C02608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1BD-0052-4AB6-B6AC-F32613C5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0F30-266C-4097-B8BF-E17EF003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D9C-9602-462A-8C19-A059606C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B50-AEAD-4D9C-AEDD-C226F9AF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928-9138-4D53-B627-0D271CF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4D65-110D-4D72-96A9-FD047D1C0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053E-FC66-4722-ABDF-3A8B8CAD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E22-8179-40BA-9D46-5768FF35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D9A-E615-4679-B271-6423C233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426-08B9-4BB6-8789-0542635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04F-ED80-4041-AA6B-1FCF24EF4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AD50-938D-44EF-B2B8-07952ECD0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9F1D-D5AD-4A81-A82A-24DD124B3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3053-8AEF-4A5C-80E0-19C147190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706B-420B-4963-B153-69CC8D6BFD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0515-D404-4C9C-BBEF-7BDBDE1FD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DF08-F4B7-41A0-AF13-1B2402259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2D25-8AB7-4231-A840-EAE2CF0D9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BA05-7DA5-4925-843E-7E8A0447491D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285840" y="129060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업무상황에 맞는 메모방법을 찾아라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를 시작하기 전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효율성을 높여주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회의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협상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고서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기획서를 위한 음성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785880" y="6548400"/>
            <a:ext cx="5500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효율성을 높여주는 메모의 방법을 이해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회의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협상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고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기획서를 위한 메모의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62320" y="3686040"/>
            <a:ext cx="285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업무 상황에 맞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효율성을 높여주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한눈에 상황을 파악할 수 있도록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만의 메모 방법을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회의할 때의 메모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커다란 대학노트를 준비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참가자별로 페이지를 등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각자 발표한 의견과 반론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발언자 난에 순서대로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다시 읽으며 중요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발언에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협상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말한 사람은 알파벳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야기한 내용은 모두 적지 말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단어만 표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림으로 그려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305080"/>
            <a:ext cx="2133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를 시작하기 전 머릿속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정리하는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의 기분이나 심적 상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의 리스트를 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의 우선순위를 정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케줄이 변경될 때를 대비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계획을 세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214280" y="1692360"/>
            <a:ext cx="2340000" cy="2450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360880" cy="2450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268280" y="2149560"/>
            <a:ext cx="23623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세미나에 참가한 결과를 보고서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작성하기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미나의 핵심 내용을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과 성과를 알 수 있도록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별도의 수첩에 기록하지 말고 주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측이 배포한 자료에 직접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에 메모할 때는 미리 목적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성과를 생각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핵심만 기록한 보고서는 핵심만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요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한 메모에서 비롯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782880" y="2225520"/>
            <a:ext cx="23623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음성 메모의 순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하는 것이 부담된다면 머릿속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생각을 먼저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은 편하게 말할 수 있는 것부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하고 난 후 제목을 붙여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녹음 후에는 반드시 한 번은 제대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들어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듣고 정리하면서 문장을 쓰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능력을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8:26Z</dcterms:modified>
  <cp:revision>11</cp:revision>
  <dc:subject/>
  <dc:title>슬라이드 1</dc:title>
</cp:coreProperties>
</file>