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70CAD-9CBB-4ECB-9F3A-5973955C92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D97C2-475A-428B-A48F-BC2E23E2CB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4EC36-6DBF-45D8-80E7-A68CA00E65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04CF0-13C1-4028-B8D8-E6948B6E9D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1CD3-EE35-4157-895A-D86E5B07C1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5B5F-FF87-441D-AC25-36DFF4EB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4001-5F6A-4C69-82B4-450FC1EC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18DD-0350-4323-81A6-E3107FC6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F785-15C1-4C8A-8F6B-75E3DB40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BB9A-E2D8-48B3-8574-5422C5ED8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91FE-DCFE-42D6-A16A-54F06B4F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025A7-E4AB-46A7-B0ED-C9A790C28A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FB79-E408-422D-9931-8A3D8618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1A60-A8B4-4F08-AF8D-3A6D8D07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3677-F8F9-43AA-823F-902AD7D4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1F9D-08FC-4F64-975A-B25B18E1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342C-CDF4-4089-A91D-D697BDB6F3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F22BE-4179-4FA1-B9B5-560010552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0A7D1-A2FA-4E8F-9571-72A8D33CC3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AE498-C7FF-4DCA-8879-BB6BA9808C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67F87-AE55-4A01-88A5-57BD1AAE67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251DE-273C-4C96-901E-301673AD82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B7074-8B6B-4CFA-8733-45D60556C9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72110-B7F3-4FB8-BD08-3D39B041E4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" name="직사각형 7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과정명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F1A2-CFD4-4730-AE48-81F2E7629707}" type="slidenum">
              <a:rPr b="0" lang="ko-KR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사각형 6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2" name="직사각형 8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머리보다 손이 먼저 움직이는 메모의 기술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3" name="직사각형 9"/>
          <p:cNvSpPr/>
          <p:nvPr/>
        </p:nvSpPr>
        <p:spPr>
          <a:xfrm>
            <a:off x="320760" y="539640"/>
            <a:ext cx="6216480" cy="86043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bingo.naver.com/album/image_view.htm?user_id=bkahi84&amp;board_no=32414&amp;nid=8329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3"/>
          <p:cNvSpPr/>
          <p:nvPr/>
        </p:nvSpPr>
        <p:spPr>
          <a:xfrm>
            <a:off x="1379880" y="1143000"/>
            <a:ext cx="442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9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차시 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일상 생활에서 메모를 활용하자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. (1)</a:t>
            </a: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46280" y="6541920"/>
            <a:ext cx="5562360" cy="124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746280" y="4027320"/>
            <a:ext cx="556236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898560" y="4332240"/>
            <a:ext cx="457200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전화 통화를 위한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정보를 정리하는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강연회나 세미나에서의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전달할 때의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785880" y="6539040"/>
            <a:ext cx="54291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전화 통화를 위한 메모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정보를 정리하는 메모 방법을 이해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171360" indent="-171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강연회나 세미나에서의 메모 기술을 익힐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171360" indent="-171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내용을 전달할 때의 메모 방법을 적용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89" name="Picture 11" descr="j0299549"/>
          <p:cNvPicPr/>
          <p:nvPr/>
        </p:nvPicPr>
        <p:blipFill>
          <a:blip r:embed="rId1"/>
          <a:stretch/>
        </p:blipFill>
        <p:spPr>
          <a:xfrm>
            <a:off x="4784760" y="4637160"/>
            <a:ext cx="1219320" cy="1155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1653480" y="3686040"/>
            <a:ext cx="352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돋움"/>
                <a:ea typeface="굴림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일상 생활에서 활용할 수 있는 메모 방법</a:t>
            </a:r>
            <a:r>
              <a:rPr b="1" lang="ko-KR" sz="1400" spc="-1" strike="noStrike">
                <a:solidFill>
                  <a:srgbClr val="000000"/>
                </a:solidFill>
                <a:latin typeface="돋움"/>
                <a:ea typeface="굴림"/>
              </a:rPr>
              <a:t>’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을 찾기 위한 발자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964440" y="620064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나는 할 수 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3633840" y="1619280"/>
            <a:ext cx="2209680" cy="245268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2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109520" y="4370400"/>
            <a:ext cx="221004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3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3664080" y="437040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4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3633840" y="2152800"/>
            <a:ext cx="220968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정보 스크랩의 포인트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일정한 크기로 복사하여 파일에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절하거나 붙여서 책으로 만든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복사하여 정리할 때는 기사의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여백에 느낀 점을 간단하게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일정한 크기로 복사형 철해 둘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시간마저 없다면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우선 파일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상자에 넣어두고 나중에 다시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읽어보면서 정리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1109520" y="4888080"/>
            <a:ext cx="221004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세미나와 강연회에서 하는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무슨 내용인지만 알아볼 수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있으면 되므로 너무 잘 쓰려고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애쓸 필요는 없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제목은 제일 위에 큼지막하게 쓴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주제별로 페이지를 구분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글씨는 읽기 좋은 크기로 쓴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5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중요한 부분에는 빨간색 펜이나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형광펜으로 표시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3664080" y="4827600"/>
            <a:ext cx="236196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전언 메모의 주의점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간단하게 용건만 눈에 띄는 곳에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놓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전화 통화를 통해 느낀 분위기를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적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상대방의 입장에서 메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1123920" y="1619280"/>
            <a:ext cx="2209680" cy="245268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1152360" y="2071800"/>
            <a:ext cx="2133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전화를 걸거나 받을 때의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바쁜 와중 전화를 받았을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때에는 상대방의 말을 빠짐없이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해 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전화 통화할 때 숫자와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고유명사는 반드시 기록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지는 큰 종이를 준비하고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나중에 따로 요점만 정리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자신이 전화를 할 때는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상대방에게 이야기할 내용을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미리 적어본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1278720" y="1847880"/>
            <a:ext cx="59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1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2" name="Line 24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5"/>
          <p:cNvSpPr/>
          <p:nvPr/>
        </p:nvSpPr>
        <p:spPr>
          <a:xfrm>
            <a:off x="380880" y="762120"/>
            <a:ext cx="1905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lus One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4" name="Line 27"/>
          <p:cNvSpPr/>
          <p:nvPr/>
        </p:nvSpPr>
        <p:spPr>
          <a:xfrm>
            <a:off x="457200" y="1395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105" name="Picture 53" descr="bkahi84_2">
            <a:hlinkClick r:id="rId1"/>
          </p:cNvPr>
          <p:cNvPicPr/>
          <p:nvPr/>
        </p:nvPicPr>
        <p:blipFill>
          <a:blip r:embed="rId2"/>
          <a:srcRect l="0" t="0" r="51709" b="35003"/>
          <a:stretch/>
        </p:blipFill>
        <p:spPr>
          <a:xfrm>
            <a:off x="1066680" y="1905120"/>
            <a:ext cx="4496040" cy="350676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55"/>
          <p:cNvSpPr/>
          <p:nvPr/>
        </p:nvSpPr>
        <p:spPr>
          <a:xfrm>
            <a:off x="1752480" y="1319040"/>
            <a:ext cx="2286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세미나를 매끄럽게 진행하기 위한 메모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7" name="AutoShape 63"/>
          <p:cNvSpPr/>
          <p:nvPr/>
        </p:nvSpPr>
        <p:spPr>
          <a:xfrm>
            <a:off x="1600200" y="2133720"/>
            <a:ext cx="3657600" cy="1523880"/>
          </a:xfrm>
          <a:prstGeom prst="roundRect">
            <a:avLst>
              <a:gd name="adj" fmla="val 16667"/>
            </a:avLst>
          </a:prstGeom>
          <a:solidFill>
            <a:srgbClr val="ffe1e1"/>
          </a:solidFill>
          <a:ln w="0">
            <a:noFill/>
          </a:ln>
          <a:effectLst>
            <a:outerShdw dist="17819" dir="2700000" blurRad="0" rotWithShape="0">
              <a:srgbClr val="fefa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이벤트에 대해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차별화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회사의 특징을 표현하려면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소프트웨어의 힘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기획의 힘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선배에게 도움 요청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마무리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8" name="AutoShape 65"/>
          <p:cNvSpPr/>
          <p:nvPr/>
        </p:nvSpPr>
        <p:spPr>
          <a:xfrm>
            <a:off x="1600200" y="4191120"/>
            <a:ext cx="3657600" cy="1295280"/>
          </a:xfrm>
          <a:prstGeom prst="roundRect">
            <a:avLst>
              <a:gd name="adj" fmla="val 16667"/>
            </a:avLst>
          </a:prstGeom>
          <a:solidFill>
            <a:srgbClr val="ffe8d1"/>
          </a:solidFill>
          <a:ln w="0">
            <a:noFill/>
          </a:ln>
          <a:effectLst>
            <a:outerShdw dist="17819" dir="2700000" blurRad="0" rotWithShape="0">
              <a:srgbClr val="fefa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사업목적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	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장소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9" name="AutoShape 76"/>
          <p:cNvSpPr/>
          <p:nvPr/>
        </p:nvSpPr>
        <p:spPr>
          <a:xfrm>
            <a:off x="2500200" y="3809880"/>
            <a:ext cx="1447920" cy="304920"/>
          </a:xfrm>
          <a:prstGeom prst="downArrow">
            <a:avLst>
              <a:gd name="adj1" fmla="val 50000"/>
              <a:gd name="adj2" fmla="val 56250"/>
            </a:avLst>
          </a:prstGeom>
          <a:solidFill>
            <a:srgbClr val="7f6f6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주제별로 한 장씩 대본을 쓴다</a:t>
            </a: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0" name="Line 77"/>
          <p:cNvSpPr/>
          <p:nvPr/>
        </p:nvSpPr>
        <p:spPr>
          <a:xfrm flipH="1">
            <a:off x="3429000" y="228600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1" name="Rectangle 78"/>
          <p:cNvSpPr/>
          <p:nvPr/>
        </p:nvSpPr>
        <p:spPr>
          <a:xfrm>
            <a:off x="4339800" y="2057400"/>
            <a:ext cx="54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이것이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톱페이지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2" name="Line 82"/>
          <p:cNvSpPr/>
          <p:nvPr/>
        </p:nvSpPr>
        <p:spPr>
          <a:xfrm flipH="1">
            <a:off x="4114800" y="4556160"/>
            <a:ext cx="380880" cy="9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3" name="Rectangle 85"/>
          <p:cNvSpPr/>
          <p:nvPr/>
        </p:nvSpPr>
        <p:spPr>
          <a:xfrm>
            <a:off x="4496760" y="4191120"/>
            <a:ext cx="754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본인만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알아볼 수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있으면 된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4" name="Freeform 88"/>
          <p:cNvSpPr/>
          <p:nvPr/>
        </p:nvSpPr>
        <p:spPr>
          <a:xfrm>
            <a:off x="3112920" y="4692600"/>
            <a:ext cx="1187640" cy="365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5" name="Freeform 91"/>
          <p:cNvSpPr/>
          <p:nvPr/>
        </p:nvSpPr>
        <p:spPr>
          <a:xfrm>
            <a:off x="3193920" y="5181480"/>
            <a:ext cx="641520" cy="114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6" name="Rectangle 86"/>
          <p:cNvSpPr/>
          <p:nvPr/>
        </p:nvSpPr>
        <p:spPr>
          <a:xfrm>
            <a:off x="3159360" y="4708440"/>
            <a:ext cx="94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새로운 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BI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홍보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7" name="Freeform 90"/>
          <p:cNvSpPr/>
          <p:nvPr/>
        </p:nvSpPr>
        <p:spPr>
          <a:xfrm>
            <a:off x="3159000" y="4994280"/>
            <a:ext cx="621000" cy="111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8" name="Freeform 91"/>
          <p:cNvSpPr/>
          <p:nvPr/>
        </p:nvSpPr>
        <p:spPr>
          <a:xfrm>
            <a:off x="3193920" y="5181480"/>
            <a:ext cx="641520" cy="114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9" name="Freeform 92"/>
          <p:cNvSpPr/>
          <p:nvPr/>
        </p:nvSpPr>
        <p:spPr>
          <a:xfrm>
            <a:off x="3087720" y="5106960"/>
            <a:ext cx="1033560" cy="58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0" name="Freeform 93"/>
          <p:cNvSpPr/>
          <p:nvPr/>
        </p:nvSpPr>
        <p:spPr>
          <a:xfrm>
            <a:off x="3824280" y="5045040"/>
            <a:ext cx="174600" cy="21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4:42:06Z</dcterms:created>
  <dc:creator>강형구</dc:creator>
  <dc:description/>
  <dc:language>en-US</dc:language>
  <cp:lastModifiedBy>a</cp:lastModifiedBy>
  <dcterms:modified xsi:type="dcterms:W3CDTF">2008-10-09T02:12:35Z</dcterms:modified>
  <cp:revision>11</cp:revision>
  <dc:subject/>
  <dc:title>슬라이드 1</dc:title>
</cp:coreProperties>
</file>