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5F81-D7C2-4DF6-B03A-C76B0BAAD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810E-7436-4507-B851-1ACA0B9F9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0098-E658-488D-AFA2-2A9F61796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2E1F-AFA4-44F3-89DC-9C7D4C2C5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9502-6CBB-4C69-BFCA-B2925D77A4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30C-461E-4A3C-90A7-72A0B81D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75F-1374-4613-89E2-54F634D5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39B-AB88-4B8F-B3C1-7A4AD30C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C75C-C74A-4918-A57E-04AD19F4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4EE-4C01-4E8B-B8CE-D6EC486C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E74-4E03-4450-82B8-4CCCECF3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956D-4313-4BF3-9460-F1FA57A30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C5D-63FF-4539-86E4-443A9D7D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2F3-0B30-42C8-983E-442D7CEB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347-9CB7-4F75-9A8A-DC5ED8E9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0DF-2512-4B64-9CC9-7AB5B60A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19C-C4C0-4F46-83DA-F85C6AF3C9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4061-BB76-4C37-9D81-82AC76BB2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1AEF-B370-47D7-86C1-5889AA2E1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7F63-07BC-4C54-BACE-D3D771B68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A0C9-5DD1-4B97-90BF-0A751A288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5C87-7DE6-4C0B-8086-64CA87499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EFE7-F11D-46D1-B6D6-69B4E1470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0167-CF5D-4F1E-B0DE-A9E555A65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6AC1-1414-431B-A81B-0A991BCF86BA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112040" y="1143000"/>
            <a:ext cx="478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업무상황에 맞는 메모방법을 찾아라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 (3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녹음기로 메모할 경우 주의 사항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메모지 사용시 주의사항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메모할 수 없는 상황 대처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메모 해서는 안 되는 내용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000080" y="66913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메모예절을 잘 지킬 수 있다</a:t>
            </a: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돋움"/>
              </a:rPr>
              <a:t>상황에 적합한 메모방법을 판단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84280" y="3643200"/>
            <a:ext cx="287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</a:rPr>
              <a:t>업무상황에 맞는 메모방법을 찾기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’를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28600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녹음을 해서는 안 되는 경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최 측이 비공개나 녹음 금지를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요청한 회의나 세미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외부업체와 하는 각종 비즈니스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회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외부인사를 초청해 개최한 강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286000" y="4888080"/>
            <a:ext cx="2209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지 선택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문구점에서 판매하는 색메모지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활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면지 활용시는 반듯하게 잘라서 사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200240" y="2305080"/>
            <a:ext cx="213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녹음기도 하나의 메모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공부를 하거나 아이디어를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메모하는 데 녹음기를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걸어다니거나 사무실 바깥에서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메모를 할 때 녹음기를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7828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357200" y="2149560"/>
            <a:ext cx="221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할 수 없는 상황 대처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요 내용과 키워드 암기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황종료 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즉시 메모로 복기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782880" y="2225520"/>
            <a:ext cx="236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해서는 안되는 내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개인적인 중요정보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통장이나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신용카드 비밀번호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이 들려주는 사적이거나 </a:t>
            </a:r>
            <a:br>
              <a:rPr sz="1000"/>
            </a:b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중요한 정보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10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192240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6"/>
          <p:cNvSpPr/>
          <p:nvPr/>
        </p:nvSpPr>
        <p:spPr>
          <a:xfrm>
            <a:off x="1600200" y="131904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상황별 메모 도구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1447920" y="2303640"/>
            <a:ext cx="4343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어쩔 수 없이 중요하여 회의를 녹음한 경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녹음을 할 때도 다른 사람이 알아차릴 수 없도록 하며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녹음한 내용도 자신만 업무활용용으로 사용하여야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평소 사용하던 메모지가 없을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새 복사용지를 적당한 크기로 잘라서 사용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메모장 없이 갑자기 상사에게 호출당하여 지시를 받게된 경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중요 지시사항을 듣고 자신의 이해도를 상사에게 직접 확인하고 포인트만 기억하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직장동료와 비밀이야기를 하는데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뭔가 적을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상대방이 눈치채지 않도록 화제를 다른 곳으로 돌리도록 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자신의 신용카드나 통장 비밀번호 관리요령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메모장의 뒷면에 자신만이 사용하는 약어나 기호를 활용하여 적는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6:32Z</dcterms:modified>
  <cp:revision>9</cp:revision>
  <dc:subject/>
  <dc:title>슬라이드 1</dc:title>
</cp:coreProperties>
</file>