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B0BCD-19A1-441E-8952-CC4BC68BD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8908-7273-48BD-899E-F80F0F21E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FC66-FF43-425A-B270-172DF6860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FEB8-0613-4EE6-B897-BD624F835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40F-9F8D-4CDE-A5ED-45633E2D4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C51-9481-4978-8472-B01C2167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3E8-E3C2-45D9-809E-A7D9D305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1DE-5639-4C92-A7E1-FDE8FABC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62B-E64D-4C01-B84E-91434590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956-58C7-4EBF-BADC-F1FB44F3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842-9744-4FF8-9E1D-B8F222E1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2D68-F41B-4151-8CA6-D6DB9883F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78C-89FE-4349-BAF0-D0874E2B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85AA-4844-44B4-B684-ACA2973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5AA6-2531-4BEC-AAB2-7F02A1B6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9CA-BBD8-4ACC-B97D-D234D52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38B-08E1-4277-9081-975D9B2A81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ECA3-1D97-4F26-9163-A0CD37318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02FE-FC2F-4C6D-8F56-09C7358EE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B2C1-E38E-4E70-BAED-4383380C3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313A-29DF-4B03-B1E6-3246AB8DC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C023-ED34-4B30-842A-F21E2B96A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A9E1-1BC7-4207-B89E-9E7ADD2DD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053F9-F183-4F8B-9C57-21807D29A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A80-BE4F-4869-8C68-54EE859C91E9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636560" y="1143000"/>
            <a:ext cx="21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메모의 기술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062240"/>
            <a:ext cx="45720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언제 어디서든 메모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주위 사람들을 관찰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기호와 암호를 활용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중요 사항은 한 눈에 띄게 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모하는 시간을 따로 마련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모를 데이터베이스로 구축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메모를 재활용하라</a:t>
            </a:r>
            <a:r>
              <a:rPr b="0" i="1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77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의 기술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가지를 실천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262880" y="3686040"/>
            <a:ext cx="25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의 기술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가지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를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주위 사람들을 관찰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을 잘하는 사람을 관찰하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따라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을 잘하는 사람과 자신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비교할 수 있는 일람표를 만들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의 내용이 지루하면 다른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들을 관찰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기호와 암호를 활용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에 글자만 쓰란 법은 없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에게 맞는 ‘기호’와 ‘암호’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고안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중요 사항은 한눈에 띄게 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사항에는 밑줄을 긋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좀 더 중요한 사항은 동그라미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삼색 볼펜을 사용해 내용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도를 구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내용은 별도로 요약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305080"/>
            <a:ext cx="21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언제 어디서든 메모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욕할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산책할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잠들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 등 언제 어디서든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늘 지니고 다니는 것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늘 보이는 곳에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643120" y="4414680"/>
            <a:ext cx="2286000" cy="2443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7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57200" y="2149560"/>
            <a:ext cx="2143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하는 시간을 따로 마련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만을 목적으로 하는 시간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갖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부러 커피숍을 찾거나 생각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해 주는 여행을 떠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루에 한 번이라도 수첩과 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을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786120" y="2214720"/>
            <a:ext cx="2214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데이터베이스로 구축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는 어떤 형태로든 남겨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를 모아 책 한 권으로 만든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와 자료를 주제별로 문서 보관 상자에 넣어 데이터베이스화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714760" y="4694400"/>
            <a:ext cx="25002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재활용하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예전의 메모를 다시 읽어보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습관부터 기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 것들은 날짜별 혹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제별로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된 메모를 문서 보관 상자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보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시 읽을 때는 느낀 점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이디어를 다른 색 펜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적어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8"/>
          <p:cNvSpPr/>
          <p:nvPr/>
        </p:nvSpPr>
        <p:spPr>
          <a:xfrm>
            <a:off x="3286080" y="14763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회의 내용이 지루할 때는 이런 메모를 해 보라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5" name="Picture 1036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00080" y="2357280"/>
            <a:ext cx="4495680" cy="4429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46"/>
          <p:cNvSpPr/>
          <p:nvPr/>
        </p:nvSpPr>
        <p:spPr>
          <a:xfrm>
            <a:off x="1724400" y="2641680"/>
            <a:ext cx="8085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직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언어 습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사고방식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자주하는 행동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일에 대한 의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인간성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신뢰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Text Box 1047"/>
          <p:cNvSpPr/>
          <p:nvPr/>
        </p:nvSpPr>
        <p:spPr>
          <a:xfrm>
            <a:off x="2705040" y="2625840"/>
            <a:ext cx="24386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김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과장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의견개진을 자주 함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주로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HY엽서L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제 생각에는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HY엽서L"/>
              </a:rPr>
              <a:t>…’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으로 발언을 시작한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긍정적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활동적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자신이 맡은 일에 책임감이 강하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다른  사람이 의견을 말할 때 메모하고 거기에 자신의 의견을 적어둔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적극적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책임의식이 강한 편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일에 관해서는 깐깐한 편이나 일상 생활에서는 부드러운 편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아주 믿을 만하다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21" name="Picture 1026" descr="http://bingoimage.naver.com/data/bingo_31/imgbingo_89/bkahi84/32414/bkahi84_2.jpg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00080" y="2422440"/>
            <a:ext cx="4495680" cy="46497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030"/>
          <p:cNvSpPr/>
          <p:nvPr/>
        </p:nvSpPr>
        <p:spPr>
          <a:xfrm>
            <a:off x="1609560" y="1622520"/>
            <a:ext cx="22860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중요한 내용을 표시하는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3" name="Rectangle 1043"/>
          <p:cNvSpPr/>
          <p:nvPr/>
        </p:nvSpPr>
        <p:spPr>
          <a:xfrm>
            <a:off x="1424160" y="2673360"/>
            <a:ext cx="35049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메모하는 방법은 사람에 따라 다르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키워드로 나타낸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예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중요한 사항에는 밑줄을 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좀 더 중요한 사항은 동그라미로 표시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삼색볼펜을 사용해 내용과 중요도를 구분한다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Text Box 1044"/>
          <p:cNvSpPr/>
          <p:nvPr/>
        </p:nvSpPr>
        <p:spPr>
          <a:xfrm>
            <a:off x="1905120" y="3600360"/>
            <a:ext cx="2971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획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가격 산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H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ㅇㅇ건 메일 보내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0:54:07Z</dcterms:modified>
  <cp:revision>10</cp:revision>
  <dc:subject/>
  <dc:title>슬라이드 1</dc:title>
</cp:coreProperties>
</file>