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C328-6F2A-4FB8-A8D9-0F0862EEF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DBD2-5B14-4B08-BB78-6CFE00292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D83C-6459-4458-B843-94C8ED213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FA9D-33B6-4D2D-88A3-584F08C73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FAE7-CEA8-4629-B254-1D3B7082F9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AA1-D080-4DD5-BE7D-B5A0FBDE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319D-4242-4F2F-BF5D-2F7A30CD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7FD-DD1A-44D4-9849-41094539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FEC-C636-4134-B220-D0B1DB6A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67F-BE1D-468B-A8B9-F8E2F236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D39-3610-4212-8B50-697891D2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F478-88B6-4D6F-9CAF-C06756695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A32D-D427-4D17-B3B3-0804E2E6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EB0-3650-4189-ABD0-90800F50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3D52-A729-4EA8-984E-C248FAEC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52C-4B68-46C2-B21E-E0EED7FC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A6D-E51C-488B-875B-66189F96FC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3378-5D29-491A-9882-894AB3FFE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DA7F-2087-4E88-9B9F-EFF15A323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D4EC-BBEB-44A4-99D9-1C0073D47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9D23-305C-4937-83AC-1E1320AFD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61D3-D27D-446E-AF67-CA1D6ED3A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2A20-DAE0-4070-92B2-DCE871E42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DAF3-92D6-4800-B76B-EF6EA410F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EFC7-5CFD-443F-BAAD-C0512A21BCE4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bingo.naver.com/album/image_view.htm?user_id=bkahi84&amp;board_no=32414&amp;nid=83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3"/>
          <p:cNvSpPr/>
          <p:nvPr/>
        </p:nvSpPr>
        <p:spPr>
          <a:xfrm>
            <a:off x="1438560" y="1143000"/>
            <a:ext cx="44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11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일상생활에서 메모를 활용하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(3) 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46280" y="6541920"/>
            <a:ext cx="556236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898560" y="433224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차량 주차할 때 메모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교통사고 발생시 메모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전출 시 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amp;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전입자를 위한 메모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4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장소 찾을 때 메모하기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857160" y="657216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1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차량 운전시의 매너를 지킬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2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조직생활에서 예의 바른 직원으로 인정받을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3.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일상생활에서 자신의 권익을 보호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89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458360" y="3686040"/>
            <a:ext cx="261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일상생활에서 메모를 활용하기’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363384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109520" y="4370400"/>
            <a:ext cx="221004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664080" y="437040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3633840" y="2152800"/>
            <a:ext cx="220968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교통사고 발생 시 메모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대방의 차량이나 신체에 문제가 없더라고 자신의 연락처를 준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대방의 차량번호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이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전화번호 등을 간단하게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보험사 통화시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담자 이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출동한 사고 처리반 이름과 연락처를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1109520" y="4888080"/>
            <a:ext cx="221004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전출 시 </a:t>
            </a: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&amp;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전입자를 위한 메모하기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무실 구조 등 건물에 관한 정보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무실 인근 병원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쇼핑센타 등 편의시설 정보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타 생활에 도움되는 정보 메모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3664080" y="4827600"/>
            <a:ext cx="23619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장소 찾을 때 메모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지도에 자신이 갈 목적지와 출발지를 표시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요 도로와 지형을 보고 이동 경로를 지도에 표시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중간 휴식시간에 지나온 경로를 표시하고 주요 포인트를 지도에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1123920" y="1619280"/>
            <a:ext cx="2209680" cy="23623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200240" y="2168640"/>
            <a:ext cx="213336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차량주차 할 때 메모하기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buClr>
                <a:srgbClr val="6c84fa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주차시설의 주차원칙을 지킨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연락처를 앞면 좌측 유리에 부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연락전화는 향상 켜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2133720" y="971640"/>
            <a:ext cx="11430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06" name="Picture 2" descr="bkahi84_2">
            <a:hlinkClick r:id="rId1"/>
          </p:cNvPr>
          <p:cNvPicPr/>
          <p:nvPr/>
        </p:nvPicPr>
        <p:blipFill>
          <a:blip r:embed="rId2"/>
          <a:srcRect l="0" t="0" r="51709" b="35003"/>
          <a:stretch/>
        </p:blipFill>
        <p:spPr>
          <a:xfrm>
            <a:off x="1066680" y="206532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/>
          <p:cNvSpPr/>
          <p:nvPr/>
        </p:nvSpPr>
        <p:spPr>
          <a:xfrm>
            <a:off x="1600200" y="147960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일상생활에서 메모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1447920" y="2446200"/>
            <a:ext cx="43434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1" lang="ko-KR" sz="1300" spc="-1" strike="noStrike">
                <a:solidFill>
                  <a:srgbClr val="000000"/>
                </a:solidFill>
                <a:latin typeface="돋움"/>
              </a:rPr>
              <a:t>주차장에서 다른 차를 긁었을 경우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바쁜 일이 있어 서두르다 다른 차량에 흠집을 냈을 경우에도 미안하다 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는 말과 함께 연락처를 반드시 메모하여 둔다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1" lang="ko-KR" sz="1300" spc="-1" strike="noStrike">
                <a:solidFill>
                  <a:srgbClr val="000000"/>
                </a:solidFill>
                <a:latin typeface="돋움"/>
              </a:rPr>
              <a:t>주위에 경험 많은 멘토를 한명 정도 메모하여 다닌다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살다 보면 교통사고나 어려운 일을 겪기도 하는데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편하게 대화하고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힘든 상황에서 자문을 받을 수 있는 사람이 필요하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평소에 이런 사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람의 전화번호를 메모하고 다니는 것도 생활의 지혜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1" lang="ko-KR" sz="1300" spc="-1" strike="noStrike">
                <a:solidFill>
                  <a:srgbClr val="000000"/>
                </a:solidFill>
                <a:latin typeface="돋움"/>
              </a:rPr>
              <a:t>이사 시의 메모 노하우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의식주에 관련된 좋은 시설을 메모하여 새로운 전입자에게 준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병원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관공서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쇼핑센타 등이 도움이 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어린아이가 있는 경우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훌륭한 소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아과도 좋은 정보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1" lang="ko-KR" sz="1300" spc="-1" strike="noStrike">
                <a:solidFill>
                  <a:srgbClr val="000000"/>
                </a:solidFill>
                <a:latin typeface="돋움"/>
              </a:rPr>
              <a:t>지도를 활용하는 노하우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단 가고자 하는 장소와 출발지를 표시한 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동서남북의 방향을 잡고 이동로를 정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맑은 날은 해를 기준으로 방위를 인식하면 좋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16:43Z</dcterms:modified>
  <cp:revision>9</cp:revision>
  <dc:subject/>
  <dc:title>슬라이드 1</dc:title>
</cp:coreProperties>
</file>