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9B40-BD5F-4757-9B07-B73D7EDE4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4604-E862-4323-9C5C-1E2C9B1C9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6AAE-F515-4224-9B8C-46809959B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B4EA-3999-49DE-8352-420209D14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240-DFB1-4DA5-AF08-81F7090979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C16-6F76-45F5-BC38-8820D325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B7B-9B75-40AA-8AA8-17D53055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32C-15A1-428C-9C64-10E8DE5A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9BE-B76F-4FB9-BACF-1E3B36BA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B8C-31CE-4FA3-B2F5-987077F1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239-EAF1-4762-B899-01E0D569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A53F-33B2-4645-9D5F-7CBACC563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BB4-D278-4859-8325-F36EF7E5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AB3-CEEC-4995-A753-D8E66DD5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B381-B51A-48D7-8D4D-6BFD0F1B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E2E-C3A0-4DCF-BEDE-2955D443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D48-9B3A-4634-8002-1B31AEA732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E29A-3112-4DFB-B8CC-9E296B6ED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19BF-8363-4919-93CD-AD23214BB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7DC2-DAEA-4E32-99BE-0E8B0F506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57A4-4781-46E8-A0E7-FC1BEB916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73CDB-6A6A-49A8-A196-F819F0A42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BA8E-D68D-4CD7-A44D-760A99962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E6E0-C19C-459E-B86C-A71986FC2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C18C-C0CE-404F-8F98-4F8F119E71F1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329840" y="849240"/>
            <a:ext cx="354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8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조직생활에서 메모로 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             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자기경쟁력을 키우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9590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</a:rPr>
              <a:t>책상 위의 메모관리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</a:rPr>
              <a:t>책상 앞의 메모관리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</a:rPr>
              <a:t>메모를 잃어버리지 않는 요령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</a:rPr>
              <a:t>메모심부름의 원칙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857160" y="6546960"/>
            <a:ext cx="45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사무실에서 메모를 잘 분류하여 관리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와 메모장을 항상 잘 관리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심부름에 대한 예의를 지킬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588680" y="3686040"/>
            <a:ext cx="319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조직생활에서 메모로 자기경쟁력을 기우기’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책상 앞의 메모관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시한이 지났거나 처리한 업무 메모는 파기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개인적인 일정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내용은 메모장으로만 관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 내용은 메모장의 별도공간에서 관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잃어버리지 않는 요령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원칙에 따라 일정한 장소에 보관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인지할 수 있을 정도로 큰 메모지나 메모장을 사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의 관심 범위 내에서 관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 심부름의 원칙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의사항을 주지시켜 전달하게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 내용은 봉투에 넣은 후 전달하게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buClr>
                <a:srgbClr val="000000"/>
              </a:buClr>
              <a:buFont typeface="돋움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주 중요하다면 본인이 직접 전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143080"/>
            <a:ext cx="2133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책상 위의 메모관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하거나 사적인 것은 책상서랍에 보관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책상 위에 둘 경우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남에게 보이지 않게 해라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퇴근 및 외출 등 자리를 비울 시 가지고 간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5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06532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1600200" y="147960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사무실에서의 메모관리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447920" y="2446200"/>
            <a:ext cx="43434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책상 위의 정리정돈은 항상 철저히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책상 위를 잘 정돈하는 사람은 실수가 적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그리고 그런 사람의 책상 위에 중요 문서가 있어도 보려고 하지 않는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이미 잘 정리되어 있어서 펼쳐진 것은 중요한 것이 아니라고 생각하기 때문이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컴퓨터 모니터는 시급한 업무만 붙인다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아주 급박한 업무만 모니터에 붙여두면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자기 최면이 되어서 놓치지 않고 처리를 할 수 있게 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파티션에는 연간목표와 조직도만 붙인다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파티션에 연간목표를 붙여두면 시각적인 효과도 좋고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다른 사람에게 업무에 충실하다는 인상을 줄 수도 있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또한 조직도 붙여 두면 업무 협조나 부서간 업무 분장 시에도 활용하기 좋다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일수수첩이나 포켓 수첩은 가급적 사용하지 말자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일수수첩은 시장 아주머니가 생각나고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포켓수첩을 꺼내어서 깨알 같이 메모를 하면 사람이 속 좁아 보이는 경우가 많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12:52Z</dcterms:modified>
  <cp:revision>9</cp:revision>
  <dc:subject/>
  <dc:title>슬라이드 1</dc:title>
</cp:coreProperties>
</file>