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5C59-D5AF-49FE-A012-B04895301391}" type="slidenum"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27DD-D668-45B9-B23C-F866A594F9E7}" type="slidenum">
              <a:rPr b="0" lang="ko-KR" sz="1200" spc="-1" strike="noStrike">
                <a:solidFill>
                  <a:srgbClr val="000000"/>
                </a:solidFill>
                <a:latin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CCD4-0E12-4534-9629-AB9E7D9D3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FF13-11FA-473A-9384-C4C04FBB4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F8DF-C3EA-44D6-BAB9-97DFED2AC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F381-488C-4ECB-8937-FBCED3BD3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63E-AA58-4B3A-90A1-BEB156A385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150-4CBC-4B6C-952F-FBFDC8F5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EA7-4906-42C2-BF94-8E667C21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9BF-7898-46D5-AFDC-9D19AFB4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EEE-A3A7-4032-B7E1-825554EA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DE9-2060-4DE7-AA07-0A0FF26E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613-9190-481B-9593-E4F08433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C55C-714F-4F12-92A3-54A1417C4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9985-7F18-4073-A755-8F825470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D05-8478-4C6B-8318-0B33B44B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8B9-E28F-4DEA-A60D-6719009B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17F-BF43-463F-9C2D-C331380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014-2EC9-408E-B5D5-0229CC839E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8121-0757-47E0-B9BD-282EE2966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F8A9-69E3-4E94-ADC7-3D384170B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E192-A7C8-431A-BC6B-3182978CA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5080" y="366480"/>
            <a:ext cx="640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864D-1DE9-40F0-B120-DD5F52EA5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D795-80AF-42DC-B9FC-14562F7A9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16D62-E5B8-4BC8-9313-6F976C3BB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A076-B586-4AFD-B50B-4234EF25F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" name="직사각형 7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과정명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D2A2-EBB7-47E9-AA22-66A8C18828AD}" type="slidenum">
              <a:rPr b="0" lang="ko-KR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6"/>
          <p:cNvSpPr/>
          <p:nvPr/>
        </p:nvSpPr>
        <p:spPr>
          <a:xfrm>
            <a:off x="0" y="8763120"/>
            <a:ext cx="6858000" cy="380880"/>
          </a:xfrm>
          <a:prstGeom prst="rect">
            <a:avLst/>
          </a:pr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2" name="직사각형 8"/>
          <p:cNvSpPr/>
          <p:nvPr/>
        </p:nvSpPr>
        <p:spPr>
          <a:xfrm>
            <a:off x="0" y="3240"/>
            <a:ext cx="6858000" cy="377640"/>
          </a:xfrm>
          <a:prstGeom prst="rect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머리보다 손이 먼저 움직이는 메모의 기술</a:t>
            </a: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3" name="직사각형 9"/>
          <p:cNvSpPr/>
          <p:nvPr/>
        </p:nvSpPr>
        <p:spPr>
          <a:xfrm>
            <a:off x="320760" y="539640"/>
            <a:ext cx="6216480" cy="860436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5080" y="366480"/>
            <a:ext cx="640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919f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44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4914720" y="876312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eorgia"/>
                <a:ea typeface="HY견명조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HY견명조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3"/>
          <p:cNvSpPr/>
          <p:nvPr/>
        </p:nvSpPr>
        <p:spPr>
          <a:xfrm>
            <a:off x="1344960" y="1143000"/>
            <a:ext cx="459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10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차시 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돋움"/>
              </a:rPr>
              <a:t>일상 생활에서 메모를 활용하자</a:t>
            </a:r>
            <a:r>
              <a:rPr b="1" lang="en-US" sz="2400" spc="-1" strike="noStrike">
                <a:solidFill>
                  <a:srgbClr val="000000"/>
                </a:solidFill>
                <a:latin typeface="돋움"/>
              </a:rPr>
              <a:t>. (2)</a:t>
            </a: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46280" y="6541920"/>
            <a:ext cx="5562360" cy="99252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46280" y="4027320"/>
            <a:ext cx="556236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898560" y="4332240"/>
            <a:ext cx="4572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인맥 관리를 위한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생각을 정리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독서할 때의 메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시각적인 메모 방법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765000" y="6556320"/>
            <a:ext cx="5526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메모를 통해 인맥 관리를 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생각을 정리할 때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독서할 때의 메모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 marL="171360" indent="-17136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시각적인 메모 방법을 적용할 수 있다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96" name="Picture 11" descr="j0299549"/>
          <p:cNvPicPr/>
          <p:nvPr/>
        </p:nvPicPr>
        <p:blipFill>
          <a:blip r:embed="rId1"/>
          <a:stretch/>
        </p:blipFill>
        <p:spPr>
          <a:xfrm>
            <a:off x="4784760" y="4637160"/>
            <a:ext cx="1219320" cy="1155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1646280" y="3686040"/>
            <a:ext cx="34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굴림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일상 생활에서 활용할 수 있는 메모 방법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굴림"/>
              </a:rPr>
              <a:t>’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을 찾기 위한 발자취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964440" y="620064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나는 할 수 있다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633840" y="1643040"/>
            <a:ext cx="2209680" cy="29289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09520" y="4786200"/>
            <a:ext cx="2210040" cy="271476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664080" y="4781520"/>
            <a:ext cx="2209680" cy="271944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643200" y="2143080"/>
            <a:ext cx="22100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생각을 정리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차량의 통행이 적은 산책길이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공원을 걸으며 생각을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문자화할 도구가 없을 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쓰기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싫거나 쓰는 일에 자신이 없으면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일단 녹음한 후 나중에 문장으로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다듬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비상시에는 휴대전화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자동응답기를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109520" y="5303880"/>
            <a:ext cx="2210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독서할 때의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을 읽을 때는 메모지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책갈피로 사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끼워둔 메모지에 작가의 의도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핵심 내용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감상 등을 적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지저분해져도 상관없다면 책에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직접 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664080" y="5238720"/>
            <a:ext cx="236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시각적으로 메모하기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짧게 항목별로 기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진이나 그림을 붙이며 마치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  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스케치북에 그림을 그리듯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하나의 단어에서 생각을 정리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1123920" y="1619280"/>
            <a:ext cx="2209680" cy="2952720"/>
          </a:xfrm>
          <a:prstGeom prst="rect">
            <a:avLst/>
          </a:prstGeom>
          <a:solidFill>
            <a:srgbClr val="ffe1e1"/>
          </a:solidFill>
          <a:ln w="9360">
            <a:solidFill>
              <a:srgbClr val="7f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200240" y="2104920"/>
            <a:ext cx="2133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3a447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 </a:t>
            </a:r>
            <a:r>
              <a:rPr b="0" lang="ko-KR" sz="1000" spc="-1" strike="noStrike">
                <a:solidFill>
                  <a:srgbClr val="f3a447"/>
                </a:solidFill>
                <a:latin typeface="돋움"/>
              </a:rPr>
              <a:t>인맥 관리를 위한 메모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1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사람을 만난 후에는 간략하게라도 상대방의 정보를 기록해 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2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명함을 교환하면 만난 날짜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장소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그 사람의 특징 등을 명함에 메모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3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상대방의 개성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특징을 표현할 수 있는 단어나 그림을 명함에 그려 넣는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4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명함은 여러 곳에 분산해서 넣어다닌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5.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명함이 없을 때에는 인물정보를 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</a:rPr>
              <a:t>기입할 수 있는 카드를 활용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1278720" y="184788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1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89000" y="468360"/>
            <a:ext cx="3600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oint </a:t>
            </a:r>
            <a:r>
              <a:rPr b="1" lang="ko-KR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학습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09" name="Line 24"/>
          <p:cNvSpPr/>
          <p:nvPr/>
        </p:nvSpPr>
        <p:spPr>
          <a:xfrm>
            <a:off x="264960" y="11016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3645720" y="185724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2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332720" y="497052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3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3717000" y="497052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3a447"/>
                </a:solidFill>
                <a:latin typeface="돋움"/>
              </a:rPr>
              <a:t>Point 4</a:t>
            </a:r>
            <a:endParaRPr b="0" lang="en-US" sz="10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5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16" name="Picture 99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00080" y="2065320"/>
            <a:ext cx="4495680" cy="35067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0"/>
          <p:cNvSpPr/>
          <p:nvPr/>
        </p:nvSpPr>
        <p:spPr>
          <a:xfrm>
            <a:off x="1685880" y="147960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간략한 인물 데이터베이스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18" name="Rectangle 112"/>
          <p:cNvSpPr/>
          <p:nvPr/>
        </p:nvSpPr>
        <p:spPr>
          <a:xfrm>
            <a:off x="1409760" y="2293920"/>
            <a:ext cx="3527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성명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회사명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㈜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부서명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획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직함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대리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날짜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2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ㅇ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.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ㅇㅇ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만난 장소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xx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문고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소개한 사람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만나게 된 계기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P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씨의 소개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느낌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첫인상은 차가워 보였으나 부드러웠고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성실한 사람인 듯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7"/>
          <p:cNvSpPr/>
          <p:nvPr/>
        </p:nvSpPr>
        <p:spPr>
          <a:xfrm>
            <a:off x="380880" y="762120"/>
            <a:ext cx="1905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f6f6f"/>
                </a:solidFill>
                <a:latin typeface="HY헤드라인M"/>
                <a:ea typeface="HY헤드라인M"/>
              </a:rPr>
              <a:t>Plus One</a:t>
            </a:r>
            <a:endParaRPr b="0" lang="en-US" sz="30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33720" y="971640"/>
            <a:ext cx="11430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457200" y="1395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pic>
        <p:nvPicPr>
          <p:cNvPr id="122" name="Picture 37" descr="bkahi84_2"/>
          <p:cNvPicPr/>
          <p:nvPr/>
        </p:nvPicPr>
        <p:blipFill>
          <a:blip r:embed="rId1"/>
          <a:srcRect l="0" t="0" r="51709" b="35003"/>
          <a:stretch/>
        </p:blipFill>
        <p:spPr>
          <a:xfrm>
            <a:off x="1066680" y="2494080"/>
            <a:ext cx="4496040" cy="35067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8"/>
          <p:cNvSpPr/>
          <p:nvPr/>
        </p:nvSpPr>
        <p:spPr>
          <a:xfrm>
            <a:off x="1752480" y="1609560"/>
            <a:ext cx="22860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키워드로 확대하는 메모의 예</a:t>
            </a:r>
            <a:endParaRPr b="0" lang="en-US" sz="15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4" name="Rectangle 52"/>
          <p:cNvSpPr/>
          <p:nvPr/>
        </p:nvSpPr>
        <p:spPr>
          <a:xfrm>
            <a:off x="1828800" y="2952720"/>
            <a:ext cx="167652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영문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3505320" y="2952720"/>
            <a:ext cx="167616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한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1828800" y="3181320"/>
            <a:ext cx="16765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rial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Memorandum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3505320" y="3181320"/>
            <a:ext cx="167616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메모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억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념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비망록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기록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   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쓰기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1828800" y="4476600"/>
            <a:ext cx="16765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備忘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記錄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   </a:t>
            </a:r>
            <a:r>
              <a:rPr b="0" lang="ko-KR" sz="1200" spc="-1" strike="noStrike">
                <a:solidFill>
                  <a:srgbClr val="000000"/>
                </a:solidFill>
                <a:latin typeface="HY엽서L"/>
                <a:ea typeface="HY엽서L"/>
              </a:rPr>
              <a:t>記憶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3505320" y="4476600"/>
            <a:ext cx="167616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メモリアル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メモリソダム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メモリㄧ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0" name="Rectangle 58"/>
          <p:cNvSpPr/>
          <p:nvPr/>
        </p:nvSpPr>
        <p:spPr>
          <a:xfrm>
            <a:off x="1828800" y="5772240"/>
            <a:ext cx="167652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한자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1" name="Rectangle 59"/>
          <p:cNvSpPr/>
          <p:nvPr/>
        </p:nvSpPr>
        <p:spPr>
          <a:xfrm>
            <a:off x="3505320" y="5772240"/>
            <a:ext cx="1676160" cy="228600"/>
          </a:xfrm>
          <a:prstGeom prst="rect">
            <a:avLst/>
          </a:prstGeom>
          <a:solidFill>
            <a:srgbClr val="ffe1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</a:rPr>
              <a:t>일본어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32" name="Oval 60"/>
          <p:cNvSpPr/>
          <p:nvPr/>
        </p:nvSpPr>
        <p:spPr>
          <a:xfrm>
            <a:off x="3048120" y="4095720"/>
            <a:ext cx="914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엽서L"/>
                <a:ea typeface="HY엽서L"/>
              </a:rPr>
              <a:t>메모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14:42:06Z</dcterms:created>
  <dc:creator>강형구</dc:creator>
  <dc:description/>
  <dc:language>en-US</dc:language>
  <cp:lastModifiedBy>a</cp:lastModifiedBy>
  <dcterms:modified xsi:type="dcterms:W3CDTF">2008-10-09T02:13:07Z</dcterms:modified>
  <cp:revision>10</cp:revision>
  <dc:subject/>
  <dc:title>슬라이드 1</dc:title>
</cp:coreProperties>
</file>