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4EBD-4FFE-4A87-B594-FAD2FF68F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CC7F-CB07-4638-9A49-FB9049ACD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18D2-31F7-4DD8-A50F-93C04311D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94B0-EA43-4163-8D63-20C745C05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406-5646-44AE-B749-69D0CF044F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5A4-2FF6-448A-9AF5-94BC18B7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76A-B6CC-498F-841B-B88FBB28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B6CC-6D14-47B4-AAE2-EB3ECF1E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227-700E-43E1-BC0B-58779C1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3AB-3138-49A6-99E1-CF250107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98B-B91F-4D65-80E0-6ABFAC3D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E430-566F-49FC-B053-66E0A528A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E53-17DA-4A4F-BE69-FD99A53E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E95-C6EF-45D6-99F9-591C8AA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6B82-23B0-4F08-833D-9977A98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0675-EB4B-48CD-B977-02BD709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C60-7683-4402-BF58-C33467CC49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A9C0-54E7-48D0-B47B-1EBA21362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91C1-3408-4E31-BA12-85BD15B39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A66C-738A-4C6E-8022-46DA1ECCB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95AE-5E55-40BE-946F-AFE8FA56B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CCB9-7617-48A6-9DD6-52B61E39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7186-13AC-4C14-9935-60EB9E93E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5013-BB8E-4612-BD62-E907DEABB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9822-7FDC-4D7E-9881-5669E2497292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006920" y="121932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2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자기관리를 위한 메모습관을 만들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(1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공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ᆞ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사로 분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중요도에 따라 분류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이중으로 메모내용 관리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복제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복사하는 요령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5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파기하는 요령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974880" y="66200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개인적인 메모와 업무 메모를 잘 분류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중요한 메모를 절대 잃어버리지 않고 챙길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없앨 것인지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보관할 것인지 판단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49720" y="3686040"/>
            <a:ext cx="27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자기관리를 위한 메모습관’을 알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43360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633840" y="2152800"/>
            <a:ext cx="220968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중요도에 따라 분류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중요한 것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빨간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약간 중요한 것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파란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심을 가져야 할 내용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검은색 펜으로 별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433600" y="4888080"/>
            <a:ext cx="2209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이중으로 메모 내용 관리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프레드 쉬트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소록 등을 상세하게 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서작성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정이나 일반 메모 정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미지관리 프로그램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메모지를 이미지로 관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200240" y="2305080"/>
            <a:ext cx="2133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공</a:t>
            </a:r>
            <a:r>
              <a:rPr b="0" lang="en-US" sz="1000" spc="-1" strike="noStrike">
                <a:solidFill>
                  <a:srgbClr val="f3a447"/>
                </a:solidFill>
                <a:latin typeface="굴림"/>
                <a:ea typeface="굴림"/>
              </a:rPr>
              <a:t>ᆞ</a:t>
            </a:r>
            <a:r>
              <a:rPr b="0" lang="ko-KR" sz="1000" spc="-1" strike="noStrike">
                <a:solidFill>
                  <a:srgbClr val="f3a447"/>
                </a:solidFill>
                <a:latin typeface="굴림"/>
                <a:ea typeface="굴림"/>
              </a:rPr>
              <a:t>사로 분류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장에 내용 중 사적인 것은 박스로 표시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업무에 관련된 내용을 위주로 정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과 사를 별개의 공간에 구분하여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1147680" y="1692360"/>
            <a:ext cx="22100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782880" y="1692360"/>
            <a:ext cx="2289240" cy="2361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5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143000" y="2149560"/>
            <a:ext cx="2290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복제</a:t>
            </a:r>
            <a:r>
              <a:rPr b="0" lang="en-US" sz="1000" spc="-1" strike="noStrike">
                <a:solidFill>
                  <a:srgbClr val="f3a447"/>
                </a:solidFill>
                <a:latin typeface="굴림"/>
                <a:ea typeface="굴림"/>
              </a:rPr>
              <a:t>ᆞ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복사하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복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내용을 변조하거나 위조하지 말 것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정서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메모는 상황 설명 코멘트를 달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복사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관관계가 있는 것 끼리 모아서 관리하는 편한 크기의 용지로 복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782880" y="2225520"/>
            <a:ext cx="2362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메모를 파기하는 요령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파기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단기로 처리할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의 소각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작은 양은 재떨이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많을 경우 야외 공터에서 소각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 버리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세단기로 처리하였거나 소각한 쓰레기는 검은 봉투에 넣어서 버릴 것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9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136600"/>
            <a:ext cx="4496040" cy="3507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1447920" y="2517840"/>
            <a:ext cx="4343400" cy="31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개인적인 일은 메모장의 뒷 장부터 활용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개인적인 일과 업무 구분을 명확하게 하고자 하는 사람은 수첩의 뒷 장에서 부터 거꾸로 개인적인 내용을 메모하면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컴퓨터에 저장한 내용도 이중으로 관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컴퓨터도 만능이 아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저장한 데이터가 실수로 삭제되기도 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갑자기 컴퓨터가 다운되어 파일 복구가 어려울 수도 있으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요한 내용은 외장 하드나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USB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저장장치에 예비로 저장하여 관리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야 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메모를 복사할 때도 관련 있는 것 끼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를 모아서 복사할 때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내용이 같거나 시간 순 등으로 나열하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여 복사하여 메모장 크기로 잘라서 붙여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태운 재도 다시 한번 더 확인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메모지를 완전하게 소각하기는 어려우므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탄 재에 물을 부어 형체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없애 버리면 재를 복구하기 어렵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1600200" y="155088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자기관리를 위한 메모습관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20:57Z</dcterms:modified>
  <cp:revision>8</cp:revision>
  <dc:subject/>
  <dc:title>슬라이드 1</dc:title>
</cp:coreProperties>
</file>