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2C52-AAB9-4E48-A1D4-16D184959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4CDA-4F03-4DFF-9216-5F92FCEC4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75C5-9731-4E9E-BBDA-12962AF02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88B8-4954-435D-84EA-7AB7CB5B8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B9D-685B-406A-B5C7-7C70F9ED0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A69-1F8E-4C91-A2B7-008042C0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2D2-172E-44FB-9E92-D29EFA30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07E-99BC-4A37-8444-4DAC1848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AB3-096B-4A20-8511-5B91C047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357-E943-4CBE-A6FC-53E5F456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E7E-57ED-41D2-8A00-E6A75DC6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7C8B-F96A-4E78-B86E-397B99A22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19D-9CE4-41F7-A942-A8E78CE3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47A-11C9-4065-9DF2-A7BC71FA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854-1081-4B99-A19E-60BAEF02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F94-0025-4736-8ECC-1AA863CC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34E-DE8C-477B-BAE7-6B24B9F2C8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7402-BE3D-4F54-8250-BD39E8B05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5E3D-E109-4982-B0F5-37084E431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A802-8A7E-40F7-8DCF-0C5EC4CBC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F45D-49FF-4DFD-A827-F92D47C34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B21F-6E19-445F-BB58-24E3691CC7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2B84-DFFC-4041-A590-BF7A34A3B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05B3-1021-4C86-8581-A2C12D582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5931-1294-49B8-A9EE-4C2FA57D9159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874880" y="1143000"/>
            <a:ext cx="30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메모를 의한 기본 조건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는 왜 하는가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는 습관이다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하는 순서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위한 환경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 도구 고르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수첩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110%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활용법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144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유형별 메모의 기술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74880" y="6770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하기 위한 환경을 조성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368360" y="3686040"/>
            <a:ext cx="259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위한 기본 조건’을 알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습관화하는 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언제 어디서든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에 자신이 좋아하는 사진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붙여두고 수시로 들여다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잘 쓰려고 하지 마라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을 위해서 하는 것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업무에 메모를 활용하는 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처리할 일’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억해야 할 일’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식으로 리스트를 작성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우선순위에 따라 순서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한 후 끝나면 리스트를 하나씩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우면서 확인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이 끝난 후의 성취감을 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끽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 내용은 나중에 다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읽어보고 활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하기 위한 환경 조성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에 필요한 도구부터 준비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디지털보다 아날로그 방식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도구를 고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은 크기를 통일하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련번호를 매겨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하는 기술보다 시간과 장소 등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환경을 먼저 조성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만의 시간을 가질 수 있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공간이나 책상을 마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214720"/>
            <a:ext cx="2133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하는 이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잊지 않기 위해 메모하기보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잊기 위해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순간 떠오르는 느낌과 발상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억하기 위해 자기 지시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린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상생활과 업무의 진행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도와준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344600" y="169236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782880" y="1692360"/>
            <a:ext cx="22100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6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500200" y="4572000"/>
            <a:ext cx="2714760" cy="26398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7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57200" y="2149560"/>
            <a:ext cx="22734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 도구 고르기의 핵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 도구를 선택할 때는 편리함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하지만 자신의 취향에 맞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것을 고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신에게 맞는 수첩을 찾았다면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거기에 자신을 맞추며 가능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꾸지 않는 게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마음에 드는 수첩은 넉넉하게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준비하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1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년에 한두 번은 자료의 백업 작업을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782880" y="2225520"/>
            <a:ext cx="2289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수첩의 올바른 사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모든 메모는 일단 적은 후에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은 여러 권을 사용하지 않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스프링 노트를 사용하여 핵심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부분만 남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손이 닿는 곳에 메모판을 걸어두고 생각나는 대로 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496960" y="5072040"/>
            <a:ext cx="274320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유형별 메모의 방법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꼼꼼한 타입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항상 휴대할 수 있는 작은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처리할 일의 목록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달력 등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활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감성적인 타입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수첩을 휴대하고 다니며  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갑자기 떠오른 생각을 적어두었다가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나중에 주제별로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성적인 타입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노트 한 권에 메모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하고 사진도 붙이며 감성을 발달시킨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변덕스런 타입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별로 메모하지 않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람이므로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먼저 메모에 필요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도구를 준비하고 메모하는 습관을 기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7" descr="bkahi84_2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1268280" y="200988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8"/>
          <p:cNvSpPr/>
          <p:nvPr/>
        </p:nvSpPr>
        <p:spPr>
          <a:xfrm>
            <a:off x="1801800" y="147636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업무 리스트 작성법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1854000" y="208584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잘못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725480" y="2330280"/>
            <a:ext cx="44960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중에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A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사무실에 전화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X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포괄적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후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A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사무실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K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전화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 다시 전화할 것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10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B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사무실에 전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또는 오후라도 상관없음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C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사무실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L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전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중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P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기획안 작성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작성한 기획안 복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택배로 우송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5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월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일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11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시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A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회사 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L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씨에게 전화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(0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C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회사에 전화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(0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Y엽서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오전 중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P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기획안 복사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택배로 우송</a:t>
            </a:r>
            <a:r>
              <a:rPr b="0" lang="en-US" sz="1000" spc="-1" strike="noStrike">
                <a:solidFill>
                  <a:srgbClr val="000000"/>
                </a:solidFill>
                <a:latin typeface="HY엽서L"/>
                <a:ea typeface="HY엽서L"/>
              </a:rPr>
              <a:t>(0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1829520" y="269568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잘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009520" y="362592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작업별로 작성된 잘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907280" y="452448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하루 일과의 점검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bkahi84_2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981000" y="1619280"/>
            <a:ext cx="4496040" cy="53290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1362240" y="2000160"/>
            <a:ext cx="4343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일할 때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책상에서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책상 오른쪽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왼손잡이는 왼쪽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에 메모지를 펼쳐놓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로 옆에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볼펜을 꽂아 언제든지 메모할 수 있도록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외근이 잦을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겉주머니에 수첩과 펜을 넣어 필요할 때 언제든지 메모할 수 있게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걸을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소형 디지털카메라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휴대용 녹음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작은 수첩을 항상 휴대하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닌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차 안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필요할 때 즉시 녹음할 수 있도록 휴대용 녹음기에 테이프를 넣어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닌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능하면 조작이 간단한 기기가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이동 중일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걸을 때는 휴대용 녹음기를 이용하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동차나 비행기를 탔을 때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IC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레코더를 사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휴대전화의 메모 기능을 이용해도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384200" y="4932360"/>
            <a:ext cx="4191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6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약속이 있을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방이나 재킷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지에 메모지를 넣어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7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집에서 쉴 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A4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용지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297X210mm)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크기의 복사 용지를 적당한 크기로 잘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자에 넣은 후 집 안 여기저기에 놓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 위에 펜을 올려놓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8. 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잘 때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(</a:t>
            </a: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침대 옆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머리맡에 노트를 준비해 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5:54Z</dcterms:modified>
  <cp:revision>8</cp:revision>
  <dc:subject/>
  <dc:title>슬라이드 1</dc:title>
</cp:coreProperties>
</file>