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5687-9E46-481D-83C7-686523B34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C26C-E35E-460C-9199-AFBEB5DC0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DE9D-0544-4DDD-BFB3-A532C7497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45DF-6EFF-4D82-ADDF-8628C1CFD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3DA-9919-4D33-B39E-A5622D6BD0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5A2-6937-4120-8F75-4CA80C29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CD44-8CD8-46F6-B968-3B843102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B73C-BA7C-42FF-8FE6-50F12D82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7D64-F866-45FF-8343-DFE7F01C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8C77-E23D-4FA7-B117-F880BBFA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CAE-84D7-4822-B48A-C0AA5E7C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FC13-991E-426A-86D5-3E1809746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CFE-2337-4A9E-BE54-36133D3B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4FF-B572-49FA-980A-1A063C04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0A09-FD90-4A68-AD0D-D3A608A4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18A-A8B3-4CEE-81A7-D760B296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A6DA-32CD-4B29-AC0A-C381A91271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B6DD-029F-4B1A-80E5-136CFCB6F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DFA4-9F7D-4C4B-91A3-7695A3EA4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C8C0-D4A3-438F-B560-03CA3BD19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758F-2527-4CAB-96B2-B91549AE6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EAB9-7A8E-4116-83EC-ACF8C8DCB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852F-77B1-4F5B-AA48-ADD61BA70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15D7-A5A8-4CA8-9126-0B379F0C9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64C1-B10A-4663-8286-D8A8C686398A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928800" y="92880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7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조직생활에서 메모로 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자기경쟁력을 키우자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조직 내부첩보 메모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조직 외부첩보 메모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정보원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출처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관리 메모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4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경영징후 진단을 위한 메모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857160" y="657216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조직 내부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외부의 정보원을 관리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중요한 정보원을 잘 보호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관심 조직의 경영상태를 진단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746280" y="3686040"/>
            <a:ext cx="53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‘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</a:rPr>
              <a:t>조직생활에서 메모로 </a:t>
            </a:r>
            <a:r>
              <a:rPr b="1" lang="en-US" sz="14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</a:rPr>
              <a:t>자기경쟁력을 키우기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’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09520" y="4370400"/>
            <a:ext cx="221004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6408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633840" y="2152800"/>
            <a:ext cx="2209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조직 외부 첩보 메모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언론 등 공개정보를 수집하여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개인적인 친분 등을 활용하여 직접 정보내용을 검증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수집된 정보를 객관적으로 검토하여 판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109520" y="4888080"/>
            <a:ext cx="2210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정보원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(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출처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)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관리 메모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이니셜을 활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정보의 질을 떨어뜨린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가능하면 최대한 보안유지를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664080" y="4827600"/>
            <a:ext cx="23619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경영징후 진단을 위한 메모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소한 일이라도 중요한 징후가 발생하면 메모한다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징후의 원인이 무엇인지 메모하여 본다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원인에 대한 해결책은 있는지 메모한다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동료와 대화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급자와 상담 등 자신의 행동요령을 메모하여 실천한다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200240" y="2143080"/>
            <a:ext cx="2133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조직 내부첩보 메모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회사 건물과 관련된 직원과 대화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회사 공용 공간 방문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직원이 애용하는 외부 식당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술집 방문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05" name="Picture 2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2065320"/>
            <a:ext cx="4496040" cy="35067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1600200" y="147960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메모로 키우는 자기경쟁력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1447920" y="2446200"/>
            <a:ext cx="43434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다른 회사의 내부정보 입수 방법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우리 회사의 내부정보를 입수하는 방법과 동일하지만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정보원에 접근하는 방법을 잘 수립하여야 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다른 회사의 외부정보 입수방법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상장회사의 경우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각종 공시나 언론 보도 등 공개정보와 협력회사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관계기관의 담당자 등과의 커뮤니케이션으로 확보가 가능하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최상의 고급정보를 항상 입수할 수 있는 노하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한번 확보한 정보원은 철저하게 보호하고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가급적 정보에 대한 유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ᆞ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무형의 댓가를 제공하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조직과 경영진의 부실 징후를 메모하였을 때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합리적인 대안을 고민하여 제시하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조직과 상급자에 맹목적으로 충성하는 사람보다 더 대우를 받을 수 있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01:18Z</dcterms:modified>
  <cp:revision>8</cp:revision>
  <dc:subject/>
  <dc:title>슬라이드 1</dc:title>
</cp:coreProperties>
</file>