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2BEB-6CF8-4C2C-A49D-8CD869E53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4205-1302-4FF0-BC8F-B065D6AEC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CA8C-BAE9-4782-9DF3-703727F84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E010-5579-42BD-918B-24EF1A801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660A-BBDB-4D8D-8965-3DEAD916B1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837-2A99-47DF-B1E7-EC8CDF89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AB6-B2B0-4EC3-8939-093208A5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948-9117-4224-8A10-CA3F6891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FD6-B05B-4517-97E5-E65001E0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4DC8-2379-4798-8CAD-00E11353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17C-1D04-4898-BA24-3B0B4438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A802-4E24-406F-8B94-2C28E8DF3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7C7-A939-4F3C-8AE8-1168D525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352-C8AD-4E21-B236-A42EB101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B4E-3E14-4919-9C74-6A349CCD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11B5-BB61-4088-AB9C-A0AAAE63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DCE8-06B1-4CD7-8C66-BEBEC769B0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7845-506F-4BA4-897D-9516C30A0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5FE1-C4C2-444C-8F15-110F3BA81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C6E1-C629-4332-89D0-4DBF995A6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3F14-DDE3-4516-8BB3-72256BFF1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FC91-7798-4956-9A54-F861A50FA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2672-24F9-4525-8103-C7A86576B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8240-007F-424C-BBD5-D2732338F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718F-EFD7-407E-AB24-3C18035E8F46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bingo.naver.com/album/image_view.htm?user_id=bkahi84&amp;board_no=32414&amp;nid=83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1006920" y="1219320"/>
            <a:ext cx="48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13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자기관리를 위한 메모습관을 만들자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.(2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장으로 교양 쌓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장으로 업무지식 쌓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장으로 외국어 능력 향상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4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습관으로 감동 전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974880" y="662004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평소에 메모장으로 관심 있는 정보를 관리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자기개발을 위한 정보를 메모장에 잘 정리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로 주위사람에게 인정을 받을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449720" y="3686040"/>
            <a:ext cx="27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자기관리를 위한 메모습관’을 알기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47680" y="4370400"/>
            <a:ext cx="221004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633840" y="2152800"/>
            <a:ext cx="220968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장으로 업무지식 쌓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buClr>
                <a:srgbClr val="6c84fa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본인이 하는 업무를 항상 정리하여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조직 내부의 다른 사람의 업무를 파악하여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조직 외부의 인맥 등을 활용하여 업무를 파악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1147680" y="4888080"/>
            <a:ext cx="22100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장으로 외국어 배우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업무에 밀접하게 연관된 단어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&amp;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회화를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단어장을 가지고 활용을 많이 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새로운 용어와 회화를 추가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ᆞ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보완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단어메모장을 항상 가지고 다니면서 본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1143000" y="2214720"/>
            <a:ext cx="2133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 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장으로 교양 쌓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장에 새로운 내용이나 용어를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카테고리를 분류하여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지속적으로 내용을 보완하거나 추가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648240" y="4357800"/>
            <a:ext cx="220968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3643200" y="4815000"/>
            <a:ext cx="2291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습관으로 감동전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첫만남에서 얻은 개인정보를 자세히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미팅에서 돌아온 후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 대화내용 등을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다음 만남을 준비할 때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기존 메모를 충분히 검토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대방을 먼저 배려하고 서비스할 방법을 찾아서 나간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1600200" y="155088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자기관리를 위한 메모습관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06" name="Picture 2" descr="bkahi84_2">
            <a:hlinkClick r:id="rId1"/>
          </p:cNvPr>
          <p:cNvPicPr/>
          <p:nvPr/>
        </p:nvPicPr>
        <p:blipFill>
          <a:blip r:embed="rId2"/>
          <a:srcRect l="0" t="0" r="51709" b="35003"/>
          <a:stretch/>
        </p:blipFill>
        <p:spPr>
          <a:xfrm>
            <a:off x="1066680" y="2136600"/>
            <a:ext cx="4496040" cy="3507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4"/>
          <p:cNvSpPr/>
          <p:nvPr/>
        </p:nvSpPr>
        <p:spPr>
          <a:xfrm>
            <a:off x="1447920" y="2517840"/>
            <a:ext cx="434340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다양한 분야의 전문 교양 쌓기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환경이나 정보통신 기술 등 분야의 전문서적을 구입하여 많이 사용하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는 용어만 메모하여 전문가 포럼을 활용하여 배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다양한 인맥관리를 위한 메모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동종 업계나 다른 업종에 근무하는 선배나 후배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포럼 등을 활용하여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가르침을 배우고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인간관계 관리를 잘 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외국어 메모장은 독서카드를 사용한다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장은 너무 작으면 내용을 많이 정리하지 못하기 때문에 독서카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(B6)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이즈가 적당하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사람관리 메모는 평소에 열심하여 습관화한다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주위 사람을 평소부터 잘 관찰하여 메모하는 것을 습관화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람을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관찰하는 것은 인간관계를 원활하게 하고 서비스를 하기 위한 것이라는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것을 항상 명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24:51Z</dcterms:modified>
  <cp:revision>9</cp:revision>
  <dc:subject/>
  <dc:title>슬라이드 1</dc:title>
</cp:coreProperties>
</file>