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AAAE-6566-4AF3-8FB9-77BCD26E3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A267-5608-478D-85F4-418112800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AFFC-946C-4E20-AD9C-EC27E3A20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A871-462B-40F2-A41E-C7F74BE37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8B9-CAC9-4829-B034-12FF3B9A93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02A-6B7C-44CB-A1D1-C1511799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E38-9EA5-4060-9726-BFA50A61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05C-2BCC-4856-B687-14707BCB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FF73-ACBF-49E4-B41A-19ABA203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4601-C598-422C-86A5-197941C7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2FB-CE6A-474B-AE47-494DCBA0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4E34-12F4-4253-AB7A-5DC173D5B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396-7626-497C-9C4F-3C32D9EA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CE3-2AA0-4975-8F59-DE8725D2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ED8-BBB2-4EBF-B1A2-07041C02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DE1-D05A-40BA-BC17-0D294B15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A9A-2F6F-47A6-8892-067C7B3BE8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0882-E2CA-4D28-B439-C3C2713DE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7E66-3095-4E90-97D7-31C1B6107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9359-D8EB-41EC-BA47-4F650DB83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5357-8F6B-4AA8-9D9F-4B9008977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D08D-1A36-4231-803B-60AB903EE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F8BD-EC27-44B2-8AFD-341E1BE02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D9DF-6E4D-483A-94A3-034E7EDC1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4B29-0CA4-465A-8F47-BD2C61B00B88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279800" y="706320"/>
            <a:ext cx="354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6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조직생활에서 메모로 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             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자기경쟁력을 키우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첩보와 정보의 구별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첩보수집경로와 관리하는 방법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정보분석방법론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정보의 질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(Quality)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관리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5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정보생산 노하우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857160" y="66200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평소에 정보를 잘 관리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업무에 도움이 되는 정보를 생산할 수 있다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고품질의 정보유지 능력을 보유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617120" y="3686040"/>
            <a:ext cx="319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조직생활에서 메모로 자기경쟁력을 키우기’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43360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633840" y="2152800"/>
            <a:ext cx="2209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첩보수집경로와 관리하는 방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양한 경로로부터 오기 때문에 항상 주의력을 집중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양한 경로에 관련된 메모는 코드번호를 부여하여 관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433600" y="4888080"/>
            <a:ext cx="2209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정보분석 방법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확한 문제 설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제기된 문제에 가설 설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설을 검증하기 위하여 첩보 수집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설 평가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설 중에 최선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최적의 가설 선택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6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속적인 검증과 모니터링 필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1143000" y="2143080"/>
            <a:ext cx="2133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첩보와 정보의 구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Data) 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특정 목적에 의해 평가되거나 가공되지 않은 단순한 사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fact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첩보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Information) 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목적성을 가지고 의도적으로 수집한 사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fact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보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Intelligence) 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책적 목적을 가지고 분석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ᆞ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평가된 가공된 지식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knowledge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44600" y="1692360"/>
            <a:ext cx="220968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782880" y="1692360"/>
            <a:ext cx="22100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357200" y="2149560"/>
            <a:ext cx="227340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정보의 질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(Quality)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관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6c84fa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적합성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relevance)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적시성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timeliness)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정확성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accuracy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객관성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objectivity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782880" y="2225520"/>
            <a:ext cx="221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정보생산 노하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내용을 충분히 이해하도록 준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내용을 객관적인 입장에서 작성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장황하지 않지만 알기 쉽게 풀어 쓸 것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간단명료하고 체계적인 설명으로 문맥 구성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2133720" y="971640"/>
            <a:ext cx="1143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9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190512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1600200" y="131904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메모로 키우는 자기경쟁력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1447920" y="2286000"/>
            <a:ext cx="43434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첩보수집경로 분류는 최대한 간단하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처음에는 업무와 비업무로 구분하여 관리하다가 분류작업이 익숙하여 지면 상세하게 구분하는 것이 좋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정보분석시 첩보가 부족할 경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현재 상황에서 수집한 첩보로 분석하여 정보를 생산하되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결론을 짓지 않고 변화상황을 적절하게 모니터링 하도록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정보내용과 상급자의 의중이 배치될 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무조건 정보내용을 주장하지 말고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다른 가능성을 인지하는 것이 도움이 되지 않느냐는 식으로 대안을 제시하도록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보고서 작성시에 수요자의 배려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보고서를 읽을 사람의 지적 수준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해당 업무의 이해도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시간적 여유 등을 고려하여 시각적 효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요약본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용어설명 등을 곁들이도록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6:43Z</dcterms:modified>
  <cp:revision>9</cp:revision>
  <dc:subject/>
  <dc:title>슬라이드 1</dc:title>
</cp:coreProperties>
</file>