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5F6-1354-447A-AF44-B2E4DA49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D07-59E9-41B8-A7EB-2E324BFD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25E-9B93-4B9C-85DE-5CF19348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FCF-9C08-4FF0-9C2F-823AF322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C4A-9ADE-4CB2-8CEC-EC9D8CC3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EC61-E918-4DDF-AAF0-11477F4E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82F4-2234-463B-8DF6-29104D97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05F-B017-4795-9BA4-7609EAAD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269-B143-4A7D-BA43-61AE2391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D731-575E-4C88-821B-D39296CD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9C7-F505-40B5-8543-44D3A99C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6F32-9DA0-472A-ABBB-ABB6C402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31D8-7593-4740-ADBA-BDEADE7016C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11360" y="1166760"/>
          <a:ext cx="5454360" cy="7174080"/>
        </p:xfrm>
        <a:graphic>
          <a:graphicData uri="http://schemas.openxmlformats.org/drawingml/2006/table">
            <a:tbl>
              <a:tblPr/>
              <a:tblGrid>
                <a:gridCol w="711000"/>
                <a:gridCol w="395280"/>
                <a:gridCol w="395280"/>
                <a:gridCol w="395280"/>
                <a:gridCol w="395280"/>
                <a:gridCol w="395280"/>
                <a:gridCol w="395280"/>
                <a:gridCol w="395280"/>
                <a:gridCol w="395280"/>
                <a:gridCol w="395280"/>
                <a:gridCol w="395280"/>
                <a:gridCol w="395280"/>
                <a:gridCol w="395280"/>
              </a:tblGrid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   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 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2ce"/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0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523880" y="665280"/>
            <a:ext cx="3802320" cy="2952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2001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~ 2030</a:t>
            </a:r>
            <a:r>
              <a:rPr b="1" lang="zh-CN" sz="1500" spc="-1" strike="noStrike">
                <a:solidFill>
                  <a:srgbClr val="000000"/>
                </a:solidFill>
                <a:latin typeface="굴림"/>
              </a:rPr>
              <a:t>년 달력 정리표 보기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851" t="83002" r="86110" b="13181"/>
          <a:stretch/>
        </p:blipFill>
        <p:spPr>
          <a:xfrm>
            <a:off x="5572080" y="8674200"/>
            <a:ext cx="1150920" cy="36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2132" t="16314" r="84555" b="70745"/>
          <a:stretch/>
        </p:blipFill>
        <p:spPr>
          <a:xfrm>
            <a:off x="0" y="0"/>
            <a:ext cx="93204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2:29:56Z</dcterms:created>
  <dc:creator>ika</dc:creator>
  <dc:description/>
  <dc:language>en-US</dc:language>
  <cp:lastModifiedBy>ika</cp:lastModifiedBy>
  <dcterms:modified xsi:type="dcterms:W3CDTF">2008-04-25T02:45:37Z</dcterms:modified>
  <cp:revision>4</cp:revision>
  <dc:subject/>
  <dc:title>슬라이드 1</dc:title>
</cp:coreProperties>
</file>