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2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804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0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2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804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4000" y="273600"/>
            <a:ext cx="9071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69160" y="6605640"/>
            <a:ext cx="23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E7E-DAD3-4C2A-B6C3-7C559242958F}" type="slidenum"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19160" y="692280"/>
            <a:ext cx="714528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264440" y="692280"/>
            <a:ext cx="261936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19160" y="428760"/>
            <a:ext cx="7145280" cy="263520"/>
          </a:xfrm>
          <a:prstGeom prst="rect">
            <a:avLst/>
          </a:prstGeom>
          <a:solidFill>
            <a:srgbClr val="d9e4e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7264440" y="3645000"/>
            <a:ext cx="2619360" cy="2311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SCRIP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0600" y="6318360"/>
            <a:ext cx="7143480" cy="288720"/>
            <a:chOff x="120600" y="6318360"/>
            <a:chExt cx="7143480" cy="288720"/>
          </a:xfrm>
        </p:grpSpPr>
        <p:sp>
          <p:nvSpPr>
            <p:cNvPr id="6" name=""/>
            <p:cNvSpPr/>
            <p:nvPr/>
          </p:nvSpPr>
          <p:spPr>
            <a:xfrm>
              <a:off x="120600" y="6318360"/>
              <a:ext cx="7143480" cy="288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8560" y="6434280"/>
              <a:ext cx="4287240" cy="7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62960" y="635328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6469560" y="6356160"/>
              <a:ext cx="237600" cy="215640"/>
              <a:chOff x="6469560" y="6356160"/>
              <a:chExt cx="237600" cy="215640"/>
            </a:xfrm>
          </p:grpSpPr>
          <p:sp>
            <p:nvSpPr>
              <p:cNvPr id="10" name=""/>
              <p:cNvSpPr/>
              <p:nvPr/>
            </p:nvSpPr>
            <p:spPr>
              <a:xfrm rot="10800000">
                <a:off x="6469560" y="6356160"/>
                <a:ext cx="23760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6527160" y="6390000"/>
                <a:ext cx="159120" cy="144000"/>
              </a:xfrm>
              <a:prstGeom prst="leftArrow">
                <a:avLst>
                  <a:gd name="adj1" fmla="val 100000"/>
                  <a:gd name="adj2" fmla="val 9593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6073920" y="6356160"/>
              <a:ext cx="237240" cy="215640"/>
              <a:chOff x="6073920" y="6356160"/>
              <a:chExt cx="237240" cy="215640"/>
            </a:xfrm>
          </p:grpSpPr>
          <p:sp>
            <p:nvSpPr>
              <p:cNvPr id="13" name=""/>
              <p:cNvSpPr/>
              <p:nvPr/>
            </p:nvSpPr>
            <p:spPr>
              <a:xfrm rot="10800000">
                <a:off x="6073920" y="6356160"/>
                <a:ext cx="23724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1650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2226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 rot="10800000">
              <a:off x="5677200" y="635616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24360" y="6462720"/>
              <a:ext cx="1591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4994280" y="6462720"/>
              <a:ext cx="1573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0800000">
              <a:off x="6866640" y="6352920"/>
              <a:ext cx="23796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909120" y="6400800"/>
              <a:ext cx="159120" cy="142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6909120" y="6391440"/>
              <a:ext cx="15912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7264440" y="433440"/>
            <a:ext cx="2619360" cy="2635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"/>
          <p:cNvSpPr/>
          <p:nvPr/>
        </p:nvSpPr>
        <p:spPr>
          <a:xfrm>
            <a:off x="8312040" y="43812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화면 설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"/>
          <p:cNvSpPr/>
          <p:nvPr/>
        </p:nvSpPr>
        <p:spPr>
          <a:xfrm>
            <a:off x="478440" y="43668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차시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분석력 중심의 통합논술 지도전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" name=""/>
          <p:cNvGrpSpPr/>
          <p:nvPr/>
        </p:nvGrpSpPr>
        <p:grpSpPr>
          <a:xfrm>
            <a:off x="144360" y="115920"/>
            <a:ext cx="9720360" cy="227160"/>
            <a:chOff x="144360" y="115920"/>
            <a:chExt cx="9720360" cy="227160"/>
          </a:xfrm>
        </p:grpSpPr>
        <p:sp>
          <p:nvSpPr>
            <p:cNvPr id="26" name=""/>
            <p:cNvSpPr/>
            <p:nvPr/>
          </p:nvSpPr>
          <p:spPr>
            <a:xfrm>
              <a:off x="9072720" y="115920"/>
              <a:ext cx="792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5344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화면번호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72360" y="115920"/>
              <a:ext cx="1081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335640" y="115920"/>
              <a:ext cx="936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구 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384720" y="115920"/>
              <a:ext cx="2950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굴림"/>
                </a:rPr>
                <a:t>08. </a:t>
              </a:r>
              <a:r>
                <a:rPr b="1" lang="zh-CN" sz="900" spc="-1" strike="noStrike">
                  <a:solidFill>
                    <a:srgbClr val="000000"/>
                  </a:solidFill>
                  <a:latin typeface="굴림"/>
                </a:rPr>
                <a:t>분석력 중심의 통합논술 지도전략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482920" y="115920"/>
              <a:ext cx="901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차시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3640" y="115920"/>
              <a:ext cx="16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통합논술지도 심화과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436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과정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4360" y="115920"/>
              <a:ext cx="0" cy="22716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3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829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38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335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272360" y="115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3534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072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86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72360" y="11592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360" y="11592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72360" y="34308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360" y="34308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1125360"/>
            <a:ext cx="62661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125360"/>
            <a:ext cx="62661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985080" y="1197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511280" y="1557360"/>
            <a:ext cx="54799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144440" y="69228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601640" y="114444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484280"/>
            <a:ext cx="62661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- FTA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찬성의견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동아일보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, &lt;FTA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대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발이나 만들며 살자는 건가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상 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학력 실업을 줄이려면 부가가치가 높은 서비스산업을 더 본격적으로 육성하는 일이 긴요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경제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도화될 수록 좋은 일자리는 주로 서비스 분야에서 나오기 때문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199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년대 중반 이후 미국에서도 정보 관련업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문가 서비스업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금융보험업 등 전문지식에 기반을 둔 서비스업이 경제성장과 일자리 창출을 주도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국 서비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산업의 노동생산성은 한국의 두 배에 가깝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국의 개방 수준은 운송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관광서비스를 제외한 거의 모든 분야에서 우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다 높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외경제정책연구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KIEP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“한미 자유무역협정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FTA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을 국내 서비스산업의 경쟁력을 높이는 계기로 삼아야 한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”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적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 발효되면 국내 서비스산업의 생산성이 높아져 최대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46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300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의 일자리가 더 생길 것으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KIEP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분석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상당수는 좋은 일자리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제 오후 서울 대학로에서 열린 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대시위에서 일부 참가자는 도로 등에 ‘박살내자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’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라고 썼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들 주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로 우리가 계속 보호 장벽만 치려 한다면 좋은 일자리만 박살날 뿐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물론 개방이 무조건 좋은 일자리를 보장하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않는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서비스산업 구조조정 등 선결 과제가 많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어제 출범식을 가진 ‘바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실현 국민운동본부’는 “개방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더불어 국내 제도 개혁을 통해 산업 간 공정경쟁이 이뤄지는 제도적 기반을 마련해야 한다” 고 강조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각국은 바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런 개방과 구조조정을 병행해 고급 일자리 쟁탈전을 벌이고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동남아 후발국인들 언제까지나 가발이나 만들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저개발 수준에 머물러 있겠는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글로벌 경제에서 우리가 개방과 구조조정을 끝내 거부하면 가발 생산 같은 저임금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일자리만 우리 몫이 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40360" y="5088240"/>
            <a:ext cx="65736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 / 3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1125360"/>
            <a:ext cx="62661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125360"/>
            <a:ext cx="62661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6985080" y="1197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1557360"/>
            <a:ext cx="54799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69228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601640" y="114444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484280"/>
            <a:ext cx="626616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-FTA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대의견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경향신문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 , &lt;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미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암울한 미래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 자유무역협정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FTA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최근 한반도 전체를 요동치게 하는 ‘이상한 끌개’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정부는 경제의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70%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를 수출에 의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는 우리나라가 치열한 국제경쟁에서 살아남는 방법은 세계 최고 경쟁력을 가진 미국과 자유무역협정을 체결해 경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력을 높이는 길밖에 없다고 강변한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국민에 신뢰성 못주는 정부 －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와 관련한 공청회 한번 제대로 열지 않았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조사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연구 부실로 객관적 근거도 없이 국민들에게 “왜 자신감이 없느냐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선동성 발언만 되풀이하는 대통령의 고압적 태도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GDP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70%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에 육박하는 국가부채로 부도 위기에 빠진 미국의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반덤핑법 같은 자신들의 비관세장벽은 유지하면서 우리의 비관세장벽은 모두 철폐하라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‘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조폭식 요구’에 떠밀려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통상현안을 ‘미리 퍼주는’ 한심한 작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1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명의 전담반을 데리고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139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명이 넘는 미국의 협상단과 맞붙는 ‘막무가내 식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진행 등이 이런 우려를 갖게 하는 요인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문학과 출판시장의 주된 고객은 중산층 독자들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로 중산층 붕괴와 사회적 양극화가 심화될 경우 독자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급격히 줄 수밖에 없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미 위축돼 있는 미술시장도 더욱 경색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－ 출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술 등 예술계도 폐해 －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문화의 파괴는 여기서 그치지 않는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영화는 물론 시청각미디어 전반에 대한 쿼터 축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폐지 및 민영화와 소유지분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제한 철폐는 문화적 공공성과 정체성의 해체를 야기할 수밖에 없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물론 친미론자들은 우리 문화의 미국화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‘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탈아입미’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脫亞入美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지름길로 환영할 것이며 이참에 영어공용화를 추진하려 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840360" y="5088240"/>
            <a:ext cx="65736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 / 3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125360"/>
            <a:ext cx="62661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125360"/>
            <a:ext cx="62661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985080" y="1197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511280" y="1557360"/>
            <a:ext cx="54799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144440" y="69228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601640" y="1144440"/>
            <a:ext cx="20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2] 7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가지 관점 적용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-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한미 </a:t>
            </a:r>
            <a:r>
              <a:rPr b="1" lang="en-US" sz="900" spc="-1" strike="noStrike">
                <a:solidFill>
                  <a:srgbClr val="333399"/>
                </a:solidFill>
                <a:latin typeface="돋움"/>
                <a:ea typeface="돋움"/>
              </a:rPr>
              <a:t>FTA </a:t>
            </a:r>
            <a:r>
              <a:rPr b="1" lang="zh-CN" sz="900" spc="-1" strike="noStrike">
                <a:solidFill>
                  <a:srgbClr val="333399"/>
                </a:solidFill>
                <a:latin typeface="돋움"/>
                <a:ea typeface="돋움"/>
              </a:rPr>
              <a:t>논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484280"/>
            <a:ext cx="626616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양과 질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동아일보는 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를 맺음으로써 우리나라의 수출의 양은 줄어들겠지만 경쟁력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질이 높아진다는 내용으로 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 있고 일자리에 집중해서 본다면 일자리의 수가 늘어난다는 것에서 양적인 측면으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 일자리가 고부가가치의 좋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일자리라는 점에서 질적인 측면으로 볼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경향신문은 이전에 시행했던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IMF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금융개방의 성과로 자랑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던 외환은행 매각이 양적으로만 충실한 성과였으며 질적으로 허술하였다는 비판을 하며 예술계에서는 밀려드는 미국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출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술 등이 우리 예술인들이 줄어드는 결과를 낳을 것이고 예술을 하는 사람이 줄어들면 그만큼 좋은 작품이 나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 없을 것이기 때문에 양적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질적 발전에 악영향을 준다고 보고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◎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주관과 객관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두 기사를 비교해 보았을 때 상대적으로 경향신문의 기사가 더 주관적이라고 볼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우선 조사와 연구가 부실하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는 주장은 한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체결 결정이 정부와 연구기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학계에서 다각도로 연구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검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논의해온 사안이었다는 점에서 주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적인 생각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또한 우리나라가 미국산 쇠고기를 수입할 때 여러 가지 연구와 조사를 거쳐 안전한 고기를 수입하는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를 두고 광우병 쇠고기 수입으로 국민의 삶이 파괴된다고 한 것은 주관적인 생각에서의 사실왜곡이며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IMF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다 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100%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방형 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·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미래는 암울할 수밖에 없다는 주장도 다분히 주관적인 생각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또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FTA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체결이 해방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60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피와 땀의 성과를 몽땅 퍼주고 세계 최고의 사회적 양극화와 전쟁문화를 수입하는 것이라는 주장도 우리나라가 그동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출 지향 정책으로 경제성장을 이루었다는 점에 미루어볼 때 객관적인 사실이 아닌 주관적인 생각인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에 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해 동아일보의 기사는 대외경제정책연구원의 분석 결과를 바탕으로 구체적인 수치를 제시해가며 서술하고 있으므로 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향신문에 비해 상대적으로 객관적인 글이라고 볼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840360" y="5088240"/>
            <a:ext cx="65736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3 / 3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08:48Z</dcterms:created>
  <dc:creator>rim</dc:creator>
  <dc:description/>
  <dc:language>en-US</dc:language>
  <cp:lastModifiedBy>MYCOM</cp:lastModifiedBy>
  <dcterms:modified xsi:type="dcterms:W3CDTF">2007-10-19T07:22:03Z</dcterms:modified>
  <cp:revision>2917</cp:revision>
  <dc:subject/>
  <dc:title>슬라이드 1</dc:title>
</cp:coreProperties>
</file>